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notesSlides/_rels/notesSlide5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wmf" ContentType="image/x-wm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</p:sldMasterIdLst>
  <p:notesMasterIdLst>
    <p:notesMasterId r:id="rId50"/>
  </p:notes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  <p:sldId id="272" r:id="rId67"/>
    <p:sldId id="273" r:id="rId68"/>
    <p:sldId id="274" r:id="rId69"/>
    <p:sldId id="275" r:id="rId70"/>
    <p:sldId id="276" r:id="rId71"/>
    <p:sldId id="277" r:id="rId72"/>
    <p:sldId id="278" r:id="rId73"/>
    <p:sldId id="279" r:id="rId74"/>
    <p:sldId id="280" r:id="rId75"/>
    <p:sldId id="281" r:id="rId76"/>
    <p:sldId id="282" r:id="rId77"/>
    <p:sldId id="283" r:id="rId78"/>
    <p:sldId id="284" r:id="rId79"/>
    <p:sldId id="285" r:id="rId80"/>
    <p:sldId id="286" r:id="rId81"/>
    <p:sldId id="287" r:id="rId82"/>
    <p:sldId id="288" r:id="rId83"/>
    <p:sldId id="289" r:id="rId84"/>
    <p:sldId id="290" r:id="rId85"/>
    <p:sldId id="291" r:id="rId86"/>
    <p:sldId id="292" r:id="rId87"/>
    <p:sldId id="293" r:id="rId88"/>
    <p:sldId id="294" r:id="rId89"/>
    <p:sldId id="295" r:id="rId90"/>
    <p:sldId id="296" r:id="rId91"/>
    <p:sldId id="297" r:id="rId92"/>
    <p:sldId id="298" r:id="rId93"/>
    <p:sldId id="299" r:id="rId94"/>
    <p:sldId id="300" r:id="rId95"/>
    <p:sldId id="301" r:id="rId96"/>
    <p:sldId id="302" r:id="rId97"/>
    <p:sldId id="303" r:id="rId98"/>
    <p:sldId id="304" r:id="rId99"/>
    <p:sldId id="305" r:id="rId100"/>
    <p:sldId id="306" r:id="rId101"/>
    <p:sldId id="307" r:id="rId102"/>
    <p:sldId id="308" r:id="rId103"/>
    <p:sldId id="309" r:id="rId104"/>
    <p:sldId id="310" r:id="rId105"/>
    <p:sldId id="311" r:id="rId106"/>
    <p:sldId id="312" r:id="rId107"/>
    <p:sldId id="313" r:id="rId108"/>
    <p:sldId id="314" r:id="rId109"/>
    <p:sldId id="315" r:id="rId1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notesMaster" Target="notesMasters/notesMaster1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slide" Target="slides/slide17.xml"/><Relationship Id="rId68" Type="http://schemas.openxmlformats.org/officeDocument/2006/relationships/slide" Target="slides/slide18.xml"/><Relationship Id="rId69" Type="http://schemas.openxmlformats.org/officeDocument/2006/relationships/slide" Target="slides/slide19.xml"/><Relationship Id="rId70" Type="http://schemas.openxmlformats.org/officeDocument/2006/relationships/slide" Target="slides/slide20.xml"/><Relationship Id="rId71" Type="http://schemas.openxmlformats.org/officeDocument/2006/relationships/slide" Target="slides/slide21.xml"/><Relationship Id="rId72" Type="http://schemas.openxmlformats.org/officeDocument/2006/relationships/slide" Target="slides/slide22.xml"/><Relationship Id="rId73" Type="http://schemas.openxmlformats.org/officeDocument/2006/relationships/slide" Target="slides/slide23.xml"/><Relationship Id="rId74" Type="http://schemas.openxmlformats.org/officeDocument/2006/relationships/slide" Target="slides/slide24.xml"/><Relationship Id="rId75" Type="http://schemas.openxmlformats.org/officeDocument/2006/relationships/slide" Target="slides/slide25.xml"/><Relationship Id="rId76" Type="http://schemas.openxmlformats.org/officeDocument/2006/relationships/slide" Target="slides/slide26.xml"/><Relationship Id="rId77" Type="http://schemas.openxmlformats.org/officeDocument/2006/relationships/slide" Target="slides/slide27.xml"/><Relationship Id="rId78" Type="http://schemas.openxmlformats.org/officeDocument/2006/relationships/slide" Target="slides/slide28.xml"/><Relationship Id="rId79" Type="http://schemas.openxmlformats.org/officeDocument/2006/relationships/slide" Target="slides/slide29.xml"/><Relationship Id="rId80" Type="http://schemas.openxmlformats.org/officeDocument/2006/relationships/slide" Target="slides/slide30.xml"/><Relationship Id="rId81" Type="http://schemas.openxmlformats.org/officeDocument/2006/relationships/slide" Target="slides/slide31.xml"/><Relationship Id="rId82" Type="http://schemas.openxmlformats.org/officeDocument/2006/relationships/slide" Target="slides/slide32.xml"/><Relationship Id="rId83" Type="http://schemas.openxmlformats.org/officeDocument/2006/relationships/slide" Target="slides/slide33.xml"/><Relationship Id="rId84" Type="http://schemas.openxmlformats.org/officeDocument/2006/relationships/slide" Target="slides/slide34.xml"/><Relationship Id="rId85" Type="http://schemas.openxmlformats.org/officeDocument/2006/relationships/slide" Target="slides/slide35.xml"/><Relationship Id="rId86" Type="http://schemas.openxmlformats.org/officeDocument/2006/relationships/slide" Target="slides/slide36.xml"/><Relationship Id="rId87" Type="http://schemas.openxmlformats.org/officeDocument/2006/relationships/slide" Target="slides/slide37.xml"/><Relationship Id="rId88" Type="http://schemas.openxmlformats.org/officeDocument/2006/relationships/slide" Target="slides/slide38.xml"/><Relationship Id="rId89" Type="http://schemas.openxmlformats.org/officeDocument/2006/relationships/slide" Target="slides/slide39.xml"/><Relationship Id="rId90" Type="http://schemas.openxmlformats.org/officeDocument/2006/relationships/slide" Target="slides/slide40.xml"/><Relationship Id="rId91" Type="http://schemas.openxmlformats.org/officeDocument/2006/relationships/slide" Target="slides/slide41.xml"/><Relationship Id="rId92" Type="http://schemas.openxmlformats.org/officeDocument/2006/relationships/slide" Target="slides/slide42.xml"/><Relationship Id="rId93" Type="http://schemas.openxmlformats.org/officeDocument/2006/relationships/slide" Target="slides/slide43.xml"/><Relationship Id="rId94" Type="http://schemas.openxmlformats.org/officeDocument/2006/relationships/slide" Target="slides/slide44.xml"/><Relationship Id="rId95" Type="http://schemas.openxmlformats.org/officeDocument/2006/relationships/slide" Target="slides/slide45.xml"/><Relationship Id="rId96" Type="http://schemas.openxmlformats.org/officeDocument/2006/relationships/slide" Target="slides/slide46.xml"/><Relationship Id="rId97" Type="http://schemas.openxmlformats.org/officeDocument/2006/relationships/slide" Target="slides/slide47.xml"/><Relationship Id="rId98" Type="http://schemas.openxmlformats.org/officeDocument/2006/relationships/slide" Target="slides/slide48.xml"/><Relationship Id="rId99" Type="http://schemas.openxmlformats.org/officeDocument/2006/relationships/slide" Target="slides/slide49.xml"/><Relationship Id="rId100" Type="http://schemas.openxmlformats.org/officeDocument/2006/relationships/slide" Target="slides/slide50.xml"/><Relationship Id="rId101" Type="http://schemas.openxmlformats.org/officeDocument/2006/relationships/slide" Target="slides/slide51.xml"/><Relationship Id="rId102" Type="http://schemas.openxmlformats.org/officeDocument/2006/relationships/slide" Target="slides/slide52.xml"/><Relationship Id="rId103" Type="http://schemas.openxmlformats.org/officeDocument/2006/relationships/slide" Target="slides/slide53.xml"/><Relationship Id="rId104" Type="http://schemas.openxmlformats.org/officeDocument/2006/relationships/slide" Target="slides/slide54.xml"/><Relationship Id="rId105" Type="http://schemas.openxmlformats.org/officeDocument/2006/relationships/slide" Target="slides/slide55.xml"/><Relationship Id="rId106" Type="http://schemas.openxmlformats.org/officeDocument/2006/relationships/slide" Target="slides/slide56.xml"/><Relationship Id="rId107" Type="http://schemas.openxmlformats.org/officeDocument/2006/relationships/slide" Target="slides/slide57.xml"/><Relationship Id="rId108" Type="http://schemas.openxmlformats.org/officeDocument/2006/relationships/slide" Target="slides/slide58.xml"/><Relationship Id="rId109" Type="http://schemas.openxmlformats.org/officeDocument/2006/relationships/slide" Target="slides/slide59.xml"/><Relationship Id="rId110" Type="http://schemas.openxmlformats.org/officeDocument/2006/relationships/slide" Target="slides/slide60.xml"/><Relationship Id="rId1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0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1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2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3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4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5" name="AutoShape 7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6" name="AutoShape 8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7" name="AutoShape 9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8" name="AutoShape 10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9" name="Text Box 11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0" name="Text Box 12"/>
          <p:cNvSpPr/>
          <p:nvPr/>
        </p:nvSpPr>
        <p:spPr>
          <a:xfrm>
            <a:off x="3884760" y="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56160" cy="34131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056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3" name="Text Box 1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 type="sldNum" idx="49"/>
          </p:nvPr>
        </p:nvSpPr>
        <p:spPr>
          <a:xfrm>
            <a:off x="3884760" y="8685000"/>
            <a:ext cx="2955600" cy="4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036E0-9C94-4F6D-87C9-8C19CFFAB2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48DAD-DE13-47E3-95F8-B153917232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0FE41F-DA85-4F2C-AC4A-DD09E35955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9DCF0-1097-43E5-B06F-1DDFB95362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86A92-4FCA-444A-B37C-BE76AC1F0C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89B80-CEDB-4F8F-B65C-29E47E3C79D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68316E-DDE8-4CC1-8D55-012225BE77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B4712-96B0-45FF-989C-8F5EBAD9E2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D28D7-E4A3-4543-9888-4EE5F696315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2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C49607-7B33-4F92-858D-73AEA8ADE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622DE-FDC2-426F-ABC4-7B7104EBAF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4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5292A-7962-4089-9437-DB1F039D32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5C713F-8C9F-47F5-96B7-B1C2DDD2A7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82B9A3-C703-4B86-B8CD-F5912D87DA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77BAAC-B769-4EE8-8F92-6685CF82D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2FB7C-0372-4E79-AD14-0EDEE4FE67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D42BD9-3FCC-4FC9-BCEA-6D5A14603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3A865A-C743-44B1-9AB9-2771796428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CF1D2-2856-4926-B1B0-A361DF086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E463E7-D81D-4FFF-BE1C-858F6C46A2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A9801-0098-4DAD-BD5F-3FE13EA48A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C9DBF-B9D6-462E-AC31-0354CFFA15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921EA-BAD2-468B-9DFF-B73F7DB5E8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DEFB3-139E-4CB1-AA40-E36275F96A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510D3-7EC9-4624-9FD8-CF37A9BFC2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416163-43C8-48D2-B464-17A3AF3826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8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AFAE2B-6C93-4268-9DF2-B70D6330ED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AA8A3-DEF8-4C89-B55E-107D51EED3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54603-340F-49AF-8F02-2E47EB9F59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AF16F-4BD9-4657-BCA0-83BA08D42D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4C3ACF-34AF-42D6-A0AC-0FDF764312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788110-BEB5-4FEE-8EF3-3075ED8A0F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153BF-8828-4A5B-901B-07FAECF7E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0B2CE1-0663-4F93-B688-26CFC96DDF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7EA29F-49B5-4604-996A-BA409B63A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C9276-306B-4CBA-9961-51FFD7B2AA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73CD6-0543-4E66-B955-01DEA293DA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13FDD-F540-4194-83ED-8430878FB6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2BAA70-2AB7-42F7-837A-4752425A9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284F0-84B1-430D-8B22-FE02FF6ED0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2CC1D9-96CE-4ACA-9E57-F147A13A25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7E5A5-065C-4B40-82CA-B500ED19DA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10BF1-71B1-4E35-A94D-2CAEDD882A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AE22C-3083-4DEE-AAB0-484EF9E31C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356718-E16F-45D7-9367-810EBBCE378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A7B46-4CB0-42E0-8CBE-0103ADD7C6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DB14C-23B6-4975-9043-99B3E650A4A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58024-A6B1-4DB5-9C6A-D59175249D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4884E5-FE69-42AE-A9D2-897DC895C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DAA85-BDF9-4D5C-8B9C-563FE602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EA5B1-EF89-4CA1-9BA8-64A35A05B5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1DD885-AEA5-440B-A789-E39C7E1874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46AC2-D144-409E-A2DB-47EC3E03310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A28CC8-7D86-44B1-BF14-669E5BFC1B9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0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F55EA-D6F4-430E-8B83-4283A770A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4F0AB1-E4DE-4E41-BF52-FB15A927F5C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B69734-7E57-4A8D-9D2C-0BC3893DF4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EEABC-20A7-461B-BA44-8B3828C925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D8418C-F5D6-4C2A-944F-9BFEF32A0E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211C1-20E9-4FAD-9DD8-F80CCDBB6B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8A305-D0EE-4C54-8384-05E81446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0" name="Rectangle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F251-0EBF-42BF-86F6-5A6237C5F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2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24DD9-80AD-4660-8175-78E01967C5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E7C8A-8C3E-4DC5-9C82-0B0C1B72CE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39592-5CEE-47E6-871B-4522F26FD5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90170-1C60-43FB-A133-3CA99E297D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28CDC-710A-4045-864C-1579ADDD9D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A3DCE-FE24-4C51-8F4E-D29784767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71B39-ABC1-47E7-87B9-BBC6B4FABF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D4E48-DB09-4C05-96EE-59FDBD87A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8FA94-E0B6-4BFC-85A0-2D02D5CA1D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82C48D-F96E-45C3-8D19-420F095B2D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EAE18-33CF-49F0-BDBF-2428FC0B333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F7BC3-BD32-417F-93AC-12F80886C1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11EA3-F581-46C6-A9CF-800001217C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56039-4A19-4A16-9FCA-273251A166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C3647-583A-42D6-AC71-967338B85A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4E605-4188-4686-B2E4-A5B90F58DF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A0DF9-4169-4470-910D-435FF1B42B8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E73FF-FF8E-476E-8546-B84456E0F1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62545-69F9-4432-AF56-9A1B24F84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A2421-2533-47E6-99CE-E4C826749C9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6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1F3BA5-2A38-4FE9-BD82-3A5B010651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283FE-54EC-4325-A985-B4CA3A8B5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72D5F-1B2C-43D3-818B-03A5C84947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4409D-7C40-46F2-AAF5-5CA45C769D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057AC-8E39-4018-B973-3048051B1D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BCEA3E-F512-4DA2-A68D-0167216EF5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98F8D6-32FC-4DAD-94F1-0E4EFB8A3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7B9EF4-2660-459D-80C7-1B5E0EA479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1D2A02-5E31-42AD-87D7-CD380A70B5C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D3610-7E1E-4BCD-9C23-7655EC8165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0C876-A9FA-42EF-8CDB-554DEE9C78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B232DB-F0C9-4F8B-A73C-C9DE9972E8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479CD-F4D0-4A63-B18B-A74DE4F5D0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907BD5-D55F-4068-B8E8-ACAC7003B1C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3D167-5237-436F-AE41-805EAA7CFF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DA55C-F116-4266-9D3F-51ADDE72737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9A910-3BA3-4DB7-9401-FABCD5AA13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9250B-8DCC-4F2A-BC4C-D96EC27026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34DF2-DFB9-4150-A4D3-2D0574BFBD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94B2A-9867-426B-B908-6F159E7D39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C33200-70EC-40F4-A65C-7D87902C1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0EF87-0F45-47EA-8AEF-227B294E8A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5F814-3DC9-4F85-B2D1-798E170EBF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74FC8-F64A-46BD-B5D8-143E9F877A5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BF282-B8D3-451C-908F-5E19D4141A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95354-7AFB-43D5-8678-94072B21EC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35C4D-793D-4D1D-AA80-75CB82FDFB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C24A79-8C99-4346-9111-B8E3FFCB8B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9933A-51B4-4329-8092-3DB69B4661C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702606-A2ED-4E32-922B-EBAFBE488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0A717A-3D38-47C5-BC67-2899AE53416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CB1E9-9269-413C-9334-FE01D62110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3C149-B65D-44F5-AFE1-E883CEE478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9A2841-322A-4F66-B831-526E79A125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0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FE504-C088-43E4-AF99-04C3EF4C40A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1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C4B5FD-0E88-4F45-827B-C1B8E53495A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5D6B8-60E0-4FC2-BB7F-C95632CEDE4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BDBA6-74DB-4685-9276-1E954AB6B5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Ходање; собни бицикл; вежбе са теговима; Таи-чи; хидроКТ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ЦИЉ: 20-30 мин, 2-3 пута/недељ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688866-9F1F-45E9-944C-29E75C439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3B76A0-DD8A-49FC-A46C-466594BEF4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5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A15447-88FE-43D0-98D7-140A57FEED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D0A41F-B113-496D-AC6A-DFA8431077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0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D8C15-757C-4CC1-8358-536A720D07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B7B799-57FC-44DC-BF47-96DC4AEEFB4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9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A14972-166F-4C9F-BE1F-913BFD8A70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2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6C6E2-3BD3-4E25-97F5-F5B884CDFE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3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B5EAF-1063-4802-B535-C38BE20F74B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Rectangle 16"/>
          <p:cNvSpPr/>
          <p:nvPr/>
        </p:nvSpPr>
        <p:spPr>
          <a:xfrm>
            <a:off x="3884760" y="8685360"/>
            <a:ext cx="2955600" cy="4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03039F-1342-4F52-A12D-D940DBA93BE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7" name="Text Box 1"/>
          <p:cNvSpPr/>
          <p:nvPr/>
        </p:nvSpPr>
        <p:spPr>
          <a:xfrm>
            <a:off x="3884760" y="8685360"/>
            <a:ext cx="295740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F0E34-5B62-421A-AFF6-848C5F36335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1AA60-99BD-462D-BBEF-BDCA043AE7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DE2FE-C162-493B-AEB8-279DC9BE6C1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F3026-431E-4C64-88CA-44A87E9CB99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53656-BEEA-415B-A4BE-7668F540A8D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641C7-2F9A-48E2-A2BE-ACD23E1FC1D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3713-5FE8-4A62-A933-0E2754C5E57E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F740E-C776-4150-B1A5-76DB5F84D87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230F3-FCCA-4E19-8891-9D6EC6000B8C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70BBB-25CC-4AF2-8CB7-7ED7D7F0404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0BB42-9B4E-4979-9F4B-8B38A945A10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9B35-355C-47A0-AC9C-B6110391268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0D95D1-47C4-4A9C-856D-2CCE5CEB5B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B68E-4837-4201-B3C2-9D53CC558A5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7B8DEF-6659-49C9-B0A4-6520DCD8CC46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DA6CC2-30E3-4584-85AD-8563BB83C2B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65056-BB96-4FB5-8857-C6FEC47E6C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595A0-988D-4153-94C9-AC540D07F08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DA960-BA24-498D-80D4-15A69AD19FF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F9FD22-050A-4372-AC69-052DCA499C8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BA4737-A01F-4CAD-B10B-629C513C762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6D8BF6-9E35-4602-9425-1743E0D498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168AE9-6AFB-4B75-B192-B2F9641DB3F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F1442B-8133-40AB-9BAC-A4DA99859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5818-7903-4C82-85C4-7B849FD402C6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59D40-A944-4A75-95BE-30D20BDD35A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832137-7B9E-4133-859C-229A67E0E5C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27D76-AF39-4B83-857E-0DE900895B1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94B29C-A3FA-47CB-B7A1-8CF51DAB1D2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8AE1E1-9EAF-40F3-AE8E-39345A7CED1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735C5E-BF86-465D-B89D-CBD19766A13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F5930-66FD-430F-8950-9887D32A42E3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D8AF0-EDA7-4375-8377-E69556234E2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CAC2B2-A1EC-451C-9C80-ACFF754C366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226DDE-A41C-4E64-9272-E7C067804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336DB-845F-4916-AB2C-541EDAB8ECE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4296C2-9FDA-4368-B275-65B78B11D13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A46F86-C6E4-4DF9-9935-21DA31CB465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FF7563-FA0B-4BF7-B467-DF68ECB9B51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E58FEB-3F63-4A11-80BB-1207A29411B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21277-755E-4FD7-87E1-C471D14F67C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40E3E-D209-4B0C-A9FE-23A32A34FA3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59D77-37A9-4C59-9543-5536E4A988B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34520-55B6-4F0F-8843-FF5A6AE4FF2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1128B-351B-4551-8E3D-9CB11ABC223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59F43-E560-4A72-8D76-7341785FDA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F70D-E0D6-4A22-B224-C8E59BB60D1F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AA6F7-B824-4273-B961-85EBB78353F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9EE20-1751-429D-A6A9-7DC262D71E4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CD6DB-6B45-4B67-B99D-051FDB4499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30519E-7687-4DD6-99AA-440F407420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82A9E-6ADD-4765-BCAF-DACE92B3497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FEB38C-ACCC-44EA-9E79-3C992467865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ADABB4-8C68-4F86-9545-29513F426795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17971C-4343-4379-8E1C-46DAE622FB5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A7E5B2-726A-48CE-B504-21A1CA93E9F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5CA549A-BFBD-4335-BA78-CA025EFE10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21B8F1-EF0C-41EF-9102-6183002F0890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229DA2-1919-46A3-AFE7-73488907EF7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5B9046-B2FE-4829-B73F-591C063CA28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76F57D-67D9-47CA-BB1C-97E507F50759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8871DC-DF63-4FD7-8F31-82FCF3C1963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66F866-FBC8-4251-A100-4F05BFE1E31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F34286-12D1-4655-BFA0-782D3686025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4A7B28-3789-4685-AD28-3E95E6DC4D04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E4ABE-67D9-48A1-8F71-27285667F3D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0EE54D-1F5B-4D32-B364-1C2005234BA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D7584B-CB73-4411-8DC6-BE4C26C1888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50A4C-2E0A-4371-907D-67B0E9CEF59F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CA4BA9-702A-4F47-9E1D-190E3C428AA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907EA-2596-4AF2-8FEB-A1AA699372F0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FC80C-CF17-4D8F-8A2A-0D5950D5E21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59B60A-A2E3-47BB-B2E6-2CF1C9CF7BA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605023-23C4-44AF-A4AA-48DC9C628A7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5EC4F1-BB7E-4F76-9275-ECF4C0C866D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16389-AC07-4DEF-B703-65F179381D2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E8AB2C-4B2D-42D3-ACF6-5D9237A6D22D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C3E23C-C48F-4505-A47B-37D0E634BA9F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D725-8196-4B45-90D5-5EAC3E1202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33C0-B00D-4F0C-9458-6EA25BDA87B7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EB2B-1A7A-46D1-AC19-E5051A804E5E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5C5E-3D40-40F2-94FD-AA5A25F37A1E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B2C03-B383-4A0E-8C49-A00CF829622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76CBD-4B2A-4B28-ACF0-597403EAE63A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FF2FF-4950-48B1-B947-A88FF28B5DB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D74E3-EEF3-46D9-9B7E-F7DE6203E77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43CA3-D341-41FE-BAEC-9D40DABBB2F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FA883-18D8-4EBE-979F-73A9394B3EC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86A8B-DA26-4281-B03A-4E46AF363F4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45C9C-EABB-4138-84C9-D4FC0EE8855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12514-C9DC-46A3-AF3C-AF62E5D38FC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306CF-0AAA-4625-9682-1C361CF9641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123776-D6ED-4F95-B952-BC5D6199166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3ABFAD-4AC7-4E6E-BE54-2BF8A3CAFB5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31C90F-5708-48A6-94FC-E2D43B9903A4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781109-DF50-4BC4-9097-F1C6B2BF6D47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BC3C82-0774-4B2A-A3C6-F153A06C5FE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D1CEF1-6B66-4A47-99F1-F747062510B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6BE36AC-18C0-4C5D-857C-8EEAD09C869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AC1AA-E5E1-46A1-AEE9-760AC089E6EF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976C04-B1D3-4193-B508-CF3606D096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322C-D22B-4A94-9C2E-61639465B52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06003-EAAA-4E9D-A1D0-C6814CE7E80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9EB7A1-6B47-4159-A6C3-D9402B8E60EF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73D889-F1C4-4485-9C65-19D00BB52541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A6F015-0050-4A75-87EE-B77C3EFA660B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4BD604-4790-4613-8779-BDB1E511FA86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BCF788-5AC6-486B-A8E8-12E69E4C5CD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9C2FE-99ED-4C5C-959F-0FCF04B5AB6F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2721F4-F88A-458B-AAA0-ABF8EA956F23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8D2517-0633-45FF-91AA-408EED370F82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79BDAD-0206-461A-BC4B-6BE37E6EDEB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B66A-4DB9-4EF0-913D-4F6A45CA02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7E337-F4F1-4E7E-AC82-67D65E0A8F58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39AFF3-D6DF-47C8-9401-DE28E261ECE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5B8410-5CE8-4C26-ACE9-6C29F77EACC9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6D6D8B-6303-45B7-9EDD-2C2EE6525B6F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F715A0-6778-465B-8460-F26C34A25278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2CD16D-BA8D-45FE-A8A1-E8B2A0C51E15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470D7-47F5-4D0D-9A9B-D611236C58E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C10CC-9084-416D-89E3-6E3AA2B5706C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5A18A-7646-45E7-BAE0-39FF36E7D87F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DDAA8-3644-45FA-A62E-7714A05DB54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7FEE7-C74C-485A-9D27-EA5BAFFD731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B6888-8DCA-4C5D-A0D5-5F67D8CB4B7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C4424-BC22-44CF-BBAB-301B0CEA4E35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8F8BD-CEA0-4A2A-9B5B-3FDECC29E902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048613-B594-4925-A88A-0EE081487706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F1354-88D3-4755-BE36-584F6CCB6AEC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E3521-3F3D-44EB-A6F5-F19E5E3E1D16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F9AC4-E778-4BF6-AFE5-70C09EBF274F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309FB-1C2B-4622-B749-ED192DAB481A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FB332D-9A64-499F-83EE-377AC3C1A35A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18B455-CD68-46B1-9F1F-096496C1AF3E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220EFF-0F89-4CD9-A56D-2F838739FA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73301-F981-4322-8814-49212CAF1B24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4C4AC61-505E-4311-89A7-9BEFAE107572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757122-08D6-42BE-A048-725E2ADCC035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2EC1DE9-9DDB-4364-94CA-0480B02E75AB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3099C9-A873-4606-BD51-0651CFEECB23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47594AD-4B63-46C5-8088-03151B9C15F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91CA43-F836-42BB-B712-2A074E9770B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E3E0D6-6B62-4C1A-BB3A-057AAB8DB000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EC0E8D2-106A-4123-86BC-7DA414B293C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B2D73F-098B-40EC-B787-DB356DECA5DB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AF7F40-1C59-4FBC-A672-85AD34C8B3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AD37-ACE9-41F3-827F-F1E7438C58EB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27FBA3-B536-42F6-8003-B956EC07ACB4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3FF735-C158-4261-BB24-0A301610E234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EC74C1-B69B-41F0-83FD-8B5494A43962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3D1273-C953-42D2-8213-07FA21DC850D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A96780-6E94-4C10-A6E1-C74B0B0F734F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F5BB75-F104-44AF-AE84-A54C8E081FF3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9238FD-746A-4AA1-9F81-8CDB9B5BEFA3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3075E-50B7-437F-936F-1DD0015D4FE7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7DCE53-7E84-477E-87AB-5675423F483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CD26C3-2497-474D-BDAC-D4CF119994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D4168-CD1E-4DED-B055-EE7A3EC622BD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AC0934-B77C-4163-B42E-7C70F86F6F9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94C2-7A05-40CE-B3C8-5E275F645F2A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156A6-344C-48BF-B63C-30EE4C692946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E82AF-B0A9-41AF-AA9A-DBAEA4AB7237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83ADC-F6F3-413C-94EB-E0809828DBA2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295C9-0408-4DDB-857F-2D828B40B11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B8A7F-ECAC-4B26-8B43-E1809997EF8A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804D6-D0FD-41C7-B56A-198308FD921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CD228-3331-4004-9981-7BFA6CA93E46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2F3E0-2EB2-4EF9-93C0-50C7E440F67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0AB3-BE7B-4E05-A81C-EB830E9E2A07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3BCF9-BB0D-4606-9EFD-EF204744447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60883-0542-4632-B685-23A895FDD2E2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A844B-1151-4064-82AC-532BFD6AFFC0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297086-C59A-4B9B-B33C-FEAB02C96DC0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7DF66-9E77-4ED6-A3EB-C5DCFFF21E6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BD97B7-4D49-4225-BBE6-79B3AC646E2D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6451A9-39F3-4501-B0A9-D543F37AAA6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FC942-6693-4ADC-973D-401E05EFADF8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68247E-2AF9-4C53-A713-C5037FDE310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761E26-94CE-4A49-8F1D-8D4B580BC3C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FE51-A7C5-4698-8C1B-3794458F8835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22C7CA3-4C61-483E-BE68-316F531E208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95FE7-11C1-44A1-A546-DC1A9A2CB22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E85021-D946-467E-A4ED-3FF5275E6415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0099526-AECC-4B1D-9227-023B3F00423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4525D30-7DEC-4997-9E9E-4B88BCA67F6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062A9E-2397-4D2C-B081-2E866842E590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83B68-95A9-436F-A830-076C5D1D3497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4D32371-8BB3-43A1-8CAA-3176AA039A01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F77BC1-DBD5-4884-9235-C0FD49B6E69A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150436-1007-4804-B5F3-066F8630F7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AE65-EB4F-4B91-8566-7354A150FCCC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8ADB2E-210B-4ACF-9550-F78DC38FF6C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84EB91-ED2F-41B5-9B3D-10BD0648418E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16DEC9-987F-4084-9479-2BAC71E4E97E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0DBD13-5B60-48FF-8869-070E5DED81DB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D83B32-E0C9-4B62-B73F-DDD95FCD6F0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B0C0FB-BCE5-4AAE-BEB5-CD22D101F8F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C2F2DA-D867-4DC5-8EEF-3E53BB428E77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7140BD-16D4-4417-B6DE-C2282DF87872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A0D9E3-632E-4DA2-931C-875256846030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ACDDB-251B-498E-8DFF-9FADD35F0E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43DD-8341-4E17-8A0E-CCFE3921D984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F567A-15C5-4D6E-A136-B67B31B9F13E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136E1-A1A8-4D9E-9C90-3E3A25EE6D8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0DD5-F0D6-4043-8649-7D95B248CEE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5727B-7DC3-420E-AAC6-41F800993FB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97BDE-BE86-4B08-BBBE-C6B786197103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8C0109-51CF-4D6B-89DB-A4A437E4D39A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58551-CA28-4D83-9B07-3EAAF9DD3EC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ED397-C668-49E8-9398-05E48D0F32D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C07EA4-7F5E-48A1-9CD4-2A2242EB848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D5D246-2118-4BDF-8698-4BFE1C420D8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0D9-5B29-4BB1-8DE6-F4F068DD39B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DD9B31-47A5-4664-8F94-8BCF868A6DEF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F9142-C94F-4DF9-9CA8-E2AE5C8E093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CECCCC-A38D-4E4F-8524-915CC61CECBA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B2FBD1-358A-4B57-A90A-A905C4EA485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8DC22D-D81B-414D-951E-1085BE871A0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6A5FA9-C699-4A08-A2C7-1663E755620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395B39-DC54-43C0-9F34-7DDC52B655D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062F7D-ACF4-498E-A631-D4DA867F100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9324DD-E2A9-494A-B8E7-62905C5CDDF5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7BEB2A-329D-429A-928A-3B0E972B48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23C6-9C6C-4C09-842B-8B86CBD263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957-C646-4E8F-8E02-874D33CC12B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18B19A-0204-469E-B67E-C4A507589B8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84C0CF-C5C9-4958-A2CC-5E14E25A9EB7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DCE442-EA99-4F3C-853B-BA04E03AFF31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FD5D4F-2651-44FA-A23F-C63C8FC7EE2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B82ED-C9D2-4D3B-B3E6-266402BE9920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9D4DE7-8FB9-434D-A8F1-AE86FA9F6CB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EBB73F-3394-4046-B514-5B129074959A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05B6CE-AE6D-46A3-BCED-97F34FB3DB47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112A82-877E-4CAA-B92F-F449A3B94021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0A1E5D-BC5D-41DA-A029-C4BEB03CA52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0F8B-DFA7-4387-B2F5-B81EA560461A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E23810-E32F-4AC0-AB0D-F5D5A9F2448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C360CD-C39E-488D-9B9C-EEE31A551E2C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38FE90-5E85-430D-9F9F-CF134517F71C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B99700-D48A-41FC-A5BD-7BB043047025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A4F162-37ED-4083-9FF9-E96BFC2A033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4B9A1-D477-4D76-B02E-05C82E658701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1E57A-2E33-4517-8C64-0294CD19FB6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27C7B-2F97-47B9-BB0B-8A7EAAB45DAF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907C3-D750-458C-B424-91EFAAC83388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FEC0D-787A-4AA9-9B6C-3BF4521023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51EF-004F-4BE1-9D9A-EC7BF917C0F8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37984-036D-40EE-9936-4F2A89A1B92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FD06-C40D-45C6-AA17-4D83848E8CA4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8198AD-F48D-4E6C-9F10-C2C10486180C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21A24-C12F-4104-A469-33C2AA9CB937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3C619-59F5-45E4-9B18-C5BDE2F89058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91E9A9-3ED8-43D5-A2AC-1C763777D745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890AE3-FA70-4BC7-B4C2-C11AF8B4B46C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C8CF34-0301-48E4-887E-E3C8AD03423A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9D6051-C377-4222-85E6-936CBD57C57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697359-61D1-4534-8DDF-D6ECF0001B2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2CE-7885-4A18-98D4-DA10223711E5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E41342-5F4C-4E2F-AFE0-811AC2F7D4DA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D1A43E-EEE3-4179-92D9-65BDF00934DB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4FAE16-A00C-43DB-B81D-18C6C7AAD580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58E379-43FB-473C-B619-EB9E586EA4A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036115-02E4-45AB-989D-E6159EE5AE5D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68D720-CA7E-4730-9D7F-67E80CA4EA9A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ABF19C-B76F-49C4-8D94-168A6BDE4CFD}" type="slidenum">
              <a:t>&lt;#&gt;</a:t>
            </a:fld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EC0DD7-A351-4252-B24F-9A00F471CA3F}" type="slidenum">
              <a:t>&lt;#&gt;</a:t>
            </a:fld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6A8E24-3D1F-406E-883B-00AF40CB57D5}" type="slidenum">
              <a:t>&lt;#&gt;</a:t>
            </a:fld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DF56D4E-BEBB-45F5-BCE5-1BA6405AA18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25FB-5BC7-4A88-9AEF-34ADC6321D09}" type="slidenum">
              <a:t>&lt;#&gt;</a:t>
            </a:fld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8389821-DC03-4E0C-8624-D804589D7ECE}" type="slidenum">
              <a:t>&lt;#&gt;</a:t>
            </a:fld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678A14-452E-4505-8352-B518FDF201F6}" type="slidenum">
              <a:t>&lt;#&gt;</a:t>
            </a:fld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B1D7CAF-3428-46B8-8642-1F581931901E}" type="slidenum">
              <a:t>&lt;#&gt;</a:t>
            </a:fld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AAA4E0A-D9EA-42B3-8F24-408D36B45D3C}" type="slidenum">
              <a:t>&lt;#&gt;</a:t>
            </a:fld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87AC7D-83ED-4C5A-AB9D-1B9A90D68932}" type="slidenum">
              <a:t>&lt;#&gt;</a:t>
            </a:fld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E9A3560-B0C6-4E57-86E4-2E9B571ABC88}" type="slidenum">
              <a:t>&lt;#&gt;</a:t>
            </a:fld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DF6D453-07D8-49D0-A8E0-797CB95781C4}" type="slidenum">
              <a:t>&lt;#&gt;</a:t>
            </a:fld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5E9D9A-DB91-4E52-BA42-C1C1D256D8AF}" type="slidenum">
              <a:t>&lt;#&gt;</a:t>
            </a:fld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F2C99DE-3C2B-4A54-BC96-9AC94504D1F3}" type="slidenum">
              <a:t>&lt;#&gt;</a:t>
            </a:fld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180B1-82B9-43E9-B973-439247D025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65B5-5D49-4098-B549-512F24BFB842}" type="slidenum">
              <a:t>&lt;#&gt;</a:t>
            </a:fld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342F6-A83A-489E-8D23-99DB78E4E86B}" type="slidenum">
              <a:t>&lt;#&gt;</a:t>
            </a:fld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F5F14-C8DB-436E-B9D3-83D3B0D50DD0}" type="slidenum">
              <a:t>&lt;#&gt;</a:t>
            </a:fld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18128-23BF-44BA-942C-A1B6961F1053}" type="slidenum">
              <a:t>&lt;#&gt;</a:t>
            </a:fld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3CA022-0000-4C30-90EA-1980742EB7A1}" type="slidenum">
              <a:t>&lt;#&gt;</a:t>
            </a:fld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9B0592-626F-4EDF-8F06-960F1E21758D}" type="slidenum">
              <a:t>&lt;#&gt;</a:t>
            </a:fld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D3F74-B205-45FA-AD77-5760040E047E}" type="slidenum">
              <a:t>&lt;#&gt;</a:t>
            </a:fld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33426-F734-4ED5-A9CF-A444453E2AE8}" type="slidenum">
              <a:t>&lt;#&gt;</a:t>
            </a:fld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9D040-0F92-4B27-9176-AF796A9E8D8C}" type="slidenum">
              <a:t>&lt;#&gt;</a:t>
            </a:fld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0AE666-40F5-4CC2-B7C9-436DEED97F21}" type="slidenum">
              <a:t>&lt;#&gt;</a:t>
            </a:fld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0710-EB75-49BD-8C07-42C9991F938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72A1-3C14-404C-8E86-780EB01F64A1}" type="slidenum">
              <a:t>&lt;#&gt;</a:t>
            </a:fld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DC459-715E-4E96-8080-9BA4167EE835}" type="slidenum">
              <a:t>&lt;#&gt;</a:t>
            </a:fld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9A95F7-A0DC-4644-BAAE-B562918C6CD9}" type="slidenum">
              <a:t>&lt;#&gt;</a:t>
            </a:fld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4515108-8237-443C-B26F-5D6462546215}" type="slidenum">
              <a:t>&lt;#&gt;</a:t>
            </a:fld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9B31428-D9D0-4DC1-9762-8794A406559C}" type="slidenum">
              <a:t>&lt;#&gt;</a:t>
            </a:fld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95B3B2-344C-47BA-9C56-2B0C4C0A0DC9}" type="slidenum">
              <a:t>&lt;#&gt;</a:t>
            </a:fld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B0AD61A-E5EC-4F20-ABF5-0A9E0A8F65D4}" type="slidenum">
              <a:t>&lt;#&gt;</a:t>
            </a:fld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647AC2F-BA6E-45B8-84AB-C178C5346371}" type="slidenum">
              <a:t>&lt;#&gt;</a:t>
            </a:fld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A27624-0226-4BFD-A997-9E3EFC66491B}" type="slidenum">
              <a:t>&lt;#&gt;</a:t>
            </a:fld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E5269CA-3CC2-405A-B48C-EF3FA62821E7}" type="slidenum">
              <a:t>&lt;#&gt;</a:t>
            </a:fld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963AD53-25A6-4F3F-83B5-5BFA62336FF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0000D-EEB2-4929-A087-6B0CEA42936D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DEE9C66-73D5-4D3D-B836-65400D314436}" type="slidenum">
              <a:t>&lt;#&gt;</a:t>
            </a:fld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643200E-A502-4AF5-990D-85A8299F3AFF}" type="slidenum">
              <a:t>&lt;#&gt;</a:t>
            </a:fld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FF21F2-06B8-4D0A-80C8-A24CB79C6B45}" type="slidenum">
              <a:t>&lt;#&gt;</a:t>
            </a:fld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FDABBF5-7651-4F99-B4C3-F1A6D38CE1B3}" type="slidenum">
              <a:t>&lt;#&gt;</a:t>
            </a:fld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7E8015-C80E-4031-94A9-84AB81D84893}" type="slidenum">
              <a:t>&lt;#&gt;</a:t>
            </a:fld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00505EE-F3EA-4539-8F36-BAEF79536D12}" type="slidenum">
              <a:t>&lt;#&gt;</a:t>
            </a:fld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95C4FCA-E1CE-4E81-9C59-AB760DD77F94}" type="slidenum">
              <a:t>&lt;#&gt;</a:t>
            </a:fld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E93921C-54B2-4A3C-8744-C909BA6FF1D2}" type="slidenum">
              <a:t>&lt;#&gt;</a:t>
            </a:fld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C0FF393-6EF3-4E62-BD9F-D457629AF442}" type="slidenum">
              <a:t>&lt;#&gt;</a:t>
            </a:fld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0410A6-EF1C-47B3-9340-C003E298A3E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26ABC-CC62-4B81-8736-8AD0D7999659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9BBABB9-5C3F-477C-9227-0648FE02F1BD}" type="slidenum">
              <a:t>&lt;#&gt;</a:t>
            </a:fld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E53F3C7-70A2-4074-9ACF-2514F578F101}" type="slidenum">
              <a:t>&lt;#&gt;</a:t>
            </a:fld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D918DBF-DFF5-49DA-AE7D-6D04752D35DC}" type="slidenum">
              <a:t>&lt;#&gt;</a:t>
            </a:fld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3C7C0D-5BB5-409D-BF8E-56FF72A217E5}" type="slidenum">
              <a:t>&lt;#&gt;</a:t>
            </a:fld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7A3357-88A2-445C-8AE0-F07739A41499}" type="slidenum">
              <a:t>&lt;#&gt;</a:t>
            </a:fld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25030A-8375-41F6-AAC4-9EF60077DE5A}" type="slidenum">
              <a:t>&lt;#&gt;</a:t>
            </a:fld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2B3C2-2C3E-4396-B142-7F48A13FBBD7}" type="slidenum">
              <a:t>&lt;#&gt;</a:t>
            </a:fld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934D6-8007-4E15-9E6B-FD483F555B8A}" type="slidenum">
              <a:t>&lt;#&gt;</a:t>
            </a:fld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8D7968-F084-4711-93EB-3A88D35F1C5F}" type="slidenum">
              <a:t>&lt;#&gt;</a:t>
            </a:fld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CC667-8E45-448C-93D7-1C158C6BA2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B3EDC-2FEA-40E8-8747-161255826E2B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3814A-56AA-473F-ABB4-D18BC0A41B8D}" type="slidenum">
              <a:t>&lt;#&gt;</a:t>
            </a:fld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EF54F-6113-454A-91DF-E751C1B06776}" type="slidenum">
              <a:t>&lt;#&gt;</a:t>
            </a:fld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9959F-456B-48EB-B8B6-5B9E9A03B503}" type="slidenum">
              <a:t>&lt;#&gt;</a:t>
            </a:fld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2BC2B-C0E0-4129-A1A9-DEA1689B20CB}" type="slidenum">
              <a:t>&lt;#&gt;</a:t>
            </a:fld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E2499-CB0F-48CE-BDA1-1B20BC3F2B36}" type="slidenum">
              <a:t>&lt;#&gt;</a:t>
            </a:fld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4E3E9-1494-4B84-9806-CD7B0CBCA57E}" type="slidenum">
              <a:t>&lt;#&gt;</a:t>
            </a:fld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A92FCA-49E6-43B1-8A7F-3DC4CE6618BB}" type="slidenum">
              <a:t>&lt;#&gt;</a:t>
            </a:fld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8B4DFC-F7DB-431F-91FB-88C7AF881A2B}" type="slidenum">
              <a:t>&lt;#&gt;</a:t>
            </a:fld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3F30A6-9D70-42DB-9420-868BF0ECEA27}" type="slidenum">
              <a:t>&lt;#&gt;</a:t>
            </a:fld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936D4D-E50B-4F50-BA57-8C3C79955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D7C7-BC35-46AC-B485-4523EFFD503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1856EC-C076-4C83-B213-2EC66BF5F696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09B6DF-F8D6-4C08-9BB9-CBEA9747003A}" type="slidenum">
              <a:t>&lt;#&gt;</a:t>
            </a:fld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EE97C7-1539-4910-8BB2-7A838DC73315}" type="slidenum">
              <a:t>&lt;#&gt;</a:t>
            </a:fld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577ECA-9090-4D81-BCF7-FD9BD8E33DF2}" type="slidenum">
              <a:t>&lt;#&gt;</a:t>
            </a:fld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DA5994-EE72-47A5-8D08-29B0E062A159}" type="slidenum">
              <a:t>&lt;#&gt;</a:t>
            </a:fld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AB5CFF-25FF-4A8A-85EB-3E833287A75B}" type="slidenum">
              <a:t>&lt;#&gt;</a:t>
            </a:fld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1A133-2B6B-41A3-8EAB-0382348882C6}" type="slidenum">
              <a:t>&lt;#&gt;</a:t>
            </a:fld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45F240-7A14-490C-97CA-4639A5C9BA61}" type="slidenum">
              <a:t>&lt;#&gt;</a:t>
            </a:fld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CCC038-0070-42AE-BB5F-9F6625B7980B}" type="slidenum">
              <a:t>&lt;#&gt;</a:t>
            </a:fld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D183F2-85BF-4B79-9A94-3320C8F95BBB}" type="slidenum">
              <a:t>&lt;#&gt;</a:t>
            </a:fld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A07E37-5559-4A42-A57A-C1C5648014F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A0D41-4843-47FB-BCF1-C3AF2BCF7A3E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CB2DC7-6713-4EC1-9865-C45EE6DE2780}" type="slidenum">
              <a:t>&lt;#&gt;</a:t>
            </a:fld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558DB5C-A1CE-4AE4-8AAB-D5C526C2C98B}" type="slidenum">
              <a:t>&lt;#&gt;</a:t>
            </a:fld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91B28C8-0703-4CB2-99D0-58E20D089C1E}" type="slidenum">
              <a:t>&lt;#&gt;</a:t>
            </a:fld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008C212-0971-4869-8FF3-6CBCF9FDC8E9}" type="slidenum">
              <a:t>&lt;#&gt;</a:t>
            </a:fld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FB62E77-CFB8-451D-9BEA-7C6C8677BCA2}" type="slidenum">
              <a:t>&lt;#&gt;</a:t>
            </a:fld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4118C6A-8743-444C-AE8F-C11AE867AD41}" type="slidenum">
              <a:t>&lt;#&gt;</a:t>
            </a:fld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CC2311B-F664-478E-AEFD-64806FF361ED}" type="slidenum">
              <a:t>&lt;#&gt;</a:t>
            </a:fld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A9E0FEF-67DA-4EE5-BC30-2CD122414B0A}" type="slidenum">
              <a:t>&lt;#&gt;</a:t>
            </a:fld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01705B6-D5A5-4285-89CA-203267ECE018}" type="slidenum">
              <a:t>&lt;#&gt;</a:t>
            </a:fld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D0FDC63-1F93-4C8C-9834-2D6051F5F4E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F2E52-21BB-4D87-BB6C-B4B0C3A5FDF8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6EF93EC-1F7E-45CB-8FC8-9C3E0B9A0FBC}" type="slidenum">
              <a:t>&lt;#&gt;</a:t>
            </a:fld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276BD-B137-4A0B-81B6-91F46BE45311}" type="slidenum">
              <a:t>&lt;#&gt;</a:t>
            </a:fld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1329B-DBD9-4E43-A61F-B37635DB9910}" type="slidenum">
              <a:t>&lt;#&gt;</a:t>
            </a:fld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75507-2B14-43C5-A1AF-7C3AE56AEF17}" type="slidenum">
              <a:t>&lt;#&gt;</a:t>
            </a:fld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26A9AF-CBC8-4725-8B8B-164103916517}" type="slidenum">
              <a:t>&lt;#&gt;</a:t>
            </a:fld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FD5ECC-4FDC-490D-9B1C-FD94C5AFAA9A}" type="slidenum">
              <a:t>&lt;#&gt;</a:t>
            </a:fld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56330-0762-44DC-B3B5-56533A3D432D}" type="slidenum">
              <a:t>&lt;#&gt;</a:t>
            </a:fld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FC3B1-0B9A-4E8A-BF5A-BAA40321D8E8}" type="slidenum">
              <a:t>&lt;#&gt;</a:t>
            </a:fld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A2700-2193-4727-A6D3-C52BFD31CC56}" type="slidenum">
              <a:t>&lt;#&gt;</a:t>
            </a:fld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C9045-8246-4C4D-8202-4801057C86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CF610-BDCE-4517-A4ED-F53A06BABD8F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1E864-D381-4C8E-95BA-D1FCF8F13DCE}" type="slidenum">
              <a:t>&lt;#&gt;</a:t>
            </a:fld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2756B-0F36-4355-B321-4031BBBD6EDF}" type="slidenum">
              <a:t>&lt;#&gt;</a:t>
            </a:fld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76B8B0-30F4-4697-A91F-E3192686A1D1}" type="slidenum">
              <a:t>&lt;#&gt;</a:t>
            </a:fld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1783FA-8FDF-4281-B325-683D9D046C68}" type="slidenum">
              <a:t>&lt;#&gt;</a:t>
            </a:fld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885001-AD2B-4D4F-8A82-F73F4535BF62}" type="slidenum">
              <a:t>&lt;#&gt;</a:t>
            </a:fld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554DC6-EB8D-4463-AC89-1F14CBC5B967}" type="slidenum">
              <a:t>&lt;#&gt;</a:t>
            </a:fld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C525DD-C649-4D4E-B0FB-0C3EE65DD85A}" type="slidenum">
              <a:t>&lt;#&gt;</a:t>
            </a:fld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9E08024-71A5-4BED-AFE3-59641BE21D3D}" type="slidenum">
              <a:t>&lt;#&gt;</a:t>
            </a:fld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AD888D4-97AD-4594-87DD-17676137414E}" type="slidenum">
              <a:t>&lt;#&gt;</a:t>
            </a:fld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E810D80-0994-42D9-A839-71EC6C2D376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BDE68-3C2C-4EE4-A557-08626CF0884F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3532BD-D27F-4B73-B728-574F852C6ABF}" type="slidenum">
              <a:t>&lt;#&gt;</a:t>
            </a:fld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FB4FD2-0472-4239-99A8-5450C47DAF5B}" type="slidenum">
              <a:t>&lt;#&gt;</a:t>
            </a:fld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BB70732-C6D7-4BD9-A9BA-E0AB2B634C71}" type="slidenum">
              <a:t>&lt;#&gt;</a:t>
            </a:fld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4F0C7B-6310-4D12-B3E2-3BB9E879A330}" type="slidenum">
              <a:t>&lt;#&gt;</a:t>
            </a:fld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6A3E63A-0EAF-4CC8-BD7A-D6638E3327D8}" type="slidenum">
              <a:t>&lt;#&gt;</a:t>
            </a:fld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680B91A-7180-4F18-9E71-A98C5875C9FB}" type="slidenum">
              <a:t>&lt;#&gt;</a:t>
            </a:fld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70819D-BE00-4D52-93AA-A7AD1B8228F0}" type="slidenum">
              <a:t>&lt;#&gt;</a:t>
            </a:fld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B850435-7288-4F0C-A5AE-E5853EA24645}" type="slidenum">
              <a:t>&lt;#&gt;</a:t>
            </a:fld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5E3F79F-B86A-4F55-95F4-5DF3E583A9CD}" type="slidenum">
              <a:t>&lt;#&gt;</a:t>
            </a:fld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4646C2D-ED26-437C-8387-147BB094E51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A2F8D6-DC88-4446-BCA3-8A7145B9061C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852A3A-37B9-44A5-B1B8-C67D1CCB53AB}" type="slidenum">
              <a:t>&lt;#&gt;</a:t>
            </a:fld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65E612-DFA2-4FFD-9341-BE7D9FF8F030}" type="slidenum">
              <a:t>&lt;#&gt;</a:t>
            </a:fld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F4DCA5-AF41-405D-BF8F-585440A1AEDF}" type="slidenum">
              <a:t>&lt;#&gt;</a:t>
            </a:fld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333B6-5AA5-4719-A990-4C0196B1E405}" type="slidenum">
              <a:t>&lt;#&gt;</a:t>
            </a:fld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B659DB4-5E5F-4040-BDFA-1722D7BACAC3}" type="slidenum">
              <a:t>&lt;#&gt;</a:t>
            </a:fld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AE00B4-443F-4BA0-9468-869AFF56E6B3}" type="slidenum">
              <a:t>&lt;#&gt;</a:t>
            </a:fld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0D4016A-579D-4684-A782-EC8E7C5568FE}" type="slidenum">
              <a:t>&lt;#&gt;</a:t>
            </a:fld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D62197-2305-450E-BA03-C334B55AF4DA}" type="slidenum">
              <a:t>&lt;#&gt;</a:t>
            </a:fld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7A807-4A87-4C56-9B02-F0E1D3F8AAB0}" type="slidenum">
              <a:t>&lt;#&gt;</a:t>
            </a:fld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0E241-2760-463D-BF91-070DE7C4744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1218B0-E533-4D49-9FE6-4535C25E06F6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D8D92-BE14-4672-A321-CACAF1FFD839}" type="slidenum">
              <a:t>&lt;#&gt;</a:t>
            </a:fld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75D81-756C-4DE9-AF56-572784086F56}" type="slidenum">
              <a:t>&lt;#&gt;</a:t>
            </a:fld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7C7B65-9051-4464-8888-9BF8BA508357}" type="slidenum">
              <a:t>&lt;#&gt;</a:t>
            </a:fld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17DC32-B43B-4725-9697-4C17F1F2A0EF}" type="slidenum">
              <a:t>&lt;#&gt;</a:t>
            </a:fld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9E7005-A45B-4F7A-A618-8420B6E717A1}" type="slidenum">
              <a:t>&lt;#&gt;</a:t>
            </a:fld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0ACD1-7897-4F42-904E-8C8928FAC173}" type="slidenum">
              <a:t>&lt;#&gt;</a:t>
            </a:fld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7F86E3-2508-4849-9CD9-7C99C0EB60AC}" type="slidenum">
              <a:t>&lt;#&gt;</a:t>
            </a:fld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DB0F1C-8450-4C4D-9636-8C1C1F727BBE}" type="slidenum">
              <a:t>&lt;#&gt;</a:t>
            </a:fld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32E05E-A5CE-4480-8CF6-EA3897BD3833}" type="slidenum">
              <a:t>&lt;#&gt;</a:t>
            </a:fld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B1F8FD8-FC93-4465-A7CF-C7DC2DDDEC6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07314-209C-4B9D-BFC8-A90DF925D648}" type="slidenum">
              <a:t>&lt;#&gt;</a:t>
            </a:fld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811B4FB-6E84-4F0B-BC59-8754A1EE9613}" type="slidenum">
              <a:t>&lt;#&gt;</a:t>
            </a:fld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3A02E7-3C6D-4BF5-862E-968095E3E7ED}" type="slidenum">
              <a:t>&lt;#&gt;</a:t>
            </a:fld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E83EBF5-CFD1-45E9-94E8-6199E14EE9A4}" type="slidenum">
              <a:t>&lt;#&gt;</a:t>
            </a:fld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A5944B-C64F-4AD4-9CC9-A1579571B6FB}" type="slidenum">
              <a:t>&lt;#&gt;</a:t>
            </a:fld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AC131B2-BD2B-46F6-A639-BCEB2C24F5BD}" type="slidenum">
              <a:t>&lt;#&gt;</a:t>
            </a:fld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9167699-66FC-4330-B150-0BAB88F88263}" type="slidenum">
              <a:t>&lt;#&gt;</a:t>
            </a:fld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7103B2F-707C-46E7-90C2-B13B7C31D696}" type="slidenum">
              <a:t>&lt;#&gt;</a:t>
            </a:fld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41BE3C0-281A-4789-A4AE-32E1F169927F}" type="slidenum">
              <a:t>&lt;#&gt;</a:t>
            </a:fld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3F313B9-85B9-4D6C-89CB-FC228E7EACED}" type="slidenum">
              <a:t>&lt;#&gt;</a:t>
            </a:fld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252343D-EF20-455E-A2BB-8E72FD4E034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0127A-2519-4D29-ABCE-5F873ABC3A44}" type="slidenum">
              <a:t>&lt;#&gt;</a:t>
            </a:fld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B9071D4-CB78-4668-AD33-0B16A7579901}" type="slidenum">
              <a:t>&lt;#&gt;</a:t>
            </a:fld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4714722-7C38-412F-AD7F-9CC2E5220C4F}" type="slidenum">
              <a:t>&lt;#&gt;</a:t>
            </a:fld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B41351-3D27-4B13-B0F0-F60D628C0FE3}" type="slidenum">
              <a:t>&lt;#&gt;</a:t>
            </a:fld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749719-7016-4054-A1E5-17328BA5EE62}" type="slidenum">
              <a:t>&lt;#&gt;</a:t>
            </a:fld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9142DB1-9DA1-449B-A050-3E657F657F39}" type="slidenum">
              <a:t>&lt;#&gt;</a:t>
            </a:fld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6DCAE3A-1433-4BB3-A474-0652E64B73C3}" type="slidenum">
              <a:t>&lt;#&gt;</a:t>
            </a:fld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B5178F-97DD-4D62-8138-DF9FACB010B9}" type="slidenum">
              <a:t>&lt;#&gt;</a:t>
            </a:fld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EB7B105-7F1A-4FF8-BA20-4A7E2ED5E3FE}" type="slidenum">
              <a:t>&lt;#&gt;</a:t>
            </a:fld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975CEB-558C-4DB3-B055-B2D3EB0BB146}" type="slidenum">
              <a:t>&lt;#&gt;</a:t>
            </a:fld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02A128C-FB60-4007-B76A-5AB7F73EB4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A627A-8EB5-46CF-923A-7E0D4B82762C}" type="slidenum">
              <a:t>&lt;#&gt;</a:t>
            </a:fld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06ED98-8F60-41CF-8C5A-836E86424C10}" type="slidenum">
              <a:t>&lt;#&gt;</a:t>
            </a:fld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AD10FE8-3E27-442A-B71D-B7C3FC93A49B}" type="slidenum">
              <a:t>&lt;#&gt;</a:t>
            </a:fld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CB545E2-CD87-463E-81F5-C883578C8A1C}" type="slidenum">
              <a:t>&lt;#&gt;</a:t>
            </a:fld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12729C-B9C9-447F-BA73-6C17E03CFF37}" type="slidenum">
              <a:t>&lt;#&gt;</a:t>
            </a:fld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066C9-BA89-4521-A91B-898F08EDB07E}" type="slidenum">
              <a:t>&lt;#&gt;</a:t>
            </a:fld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C000E3-DCDC-465D-A7F5-86595C5B1801}" type="slidenum">
              <a:t>&lt;#&gt;</a:t>
            </a:fld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59CB20-0793-4960-A1B9-7A71188C59E7}" type="slidenum">
              <a:t>&lt;#&gt;</a:t>
            </a:fld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B30208-F1D0-4BB5-8632-A5F9B83A1517}" type="slidenum">
              <a:t>&lt;#&gt;</a:t>
            </a:fld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C2BF5B-7DCB-4BE0-B6DD-CAF1D50893AD}" type="slidenum">
              <a:t>&lt;#&gt;</a:t>
            </a:fld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AEE793-377E-460D-A65E-A24EA6DE05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1F9F8-278E-41B3-A45C-518003C56C0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28E1D-4533-4F03-B1F0-85F449A93C69}" type="slidenum">
              <a:t>&lt;#&gt;</a:t>
            </a:fld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27A70B-887D-490F-8757-8BFA50E86F4A}" type="slidenum">
              <a:t>&lt;#&gt;</a:t>
            </a:fld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48FC8F-B659-4C5A-8933-1D2BB1A81F00}" type="slidenum">
              <a:t>&lt;#&gt;</a:t>
            </a:fld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2FE542-9F09-48BD-9537-09DC4E6BC028}" type="slidenum">
              <a:t>&lt;#&gt;</a:t>
            </a:fld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C437CA-17CA-4078-B81B-64A388871D4D}" type="slidenum">
              <a:t>&lt;#&gt;</a:t>
            </a:fld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0FD8F0-54D1-488F-9DB5-5A5264637F45}" type="slidenum">
              <a:t>&lt;#&gt;</a:t>
            </a:fld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65394DD-595B-4A67-A8F3-E71E3F7A70A0}" type="slidenum">
              <a:t>&lt;#&gt;</a:t>
            </a:fld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4C6844D-3729-434E-8686-F4D9B2B4A227}" type="slidenum">
              <a:t>&lt;#&gt;</a:t>
            </a:fld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EE45CF3-2A54-4243-987C-4D17F4651CF7}" type="slidenum">
              <a:t>&lt;#&gt;</a:t>
            </a:fld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73A780-F0FB-4D15-97C7-58FB349AE4A1}" type="slidenum">
              <a:t>&lt;#&gt;</a:t>
            </a:fld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7B780CF-78A3-4222-81BE-C62566CF46E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2386A-4F7A-419C-8C35-BBE04457D962}" type="slidenum">
              <a:t>&lt;#&gt;</a:t>
            </a:fld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980AD1B-EEE4-4D5E-BC7C-3552F6DE40F1}" type="slidenum">
              <a:t>&lt;#&gt;</a:t>
            </a:fld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0CA5011-B449-4538-AC24-FD0A0BF01F02}" type="slidenum">
              <a:t>&lt;#&gt;</a:t>
            </a:fld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722ADCD-9132-4042-B0BC-79E3F409D4C3}" type="slidenum">
              <a:t>&lt;#&gt;</a:t>
            </a:fld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11BA4F2-0AD9-4FB8-B92B-D340CAC5C31B}" type="slidenum">
              <a:t>&lt;#&gt;</a:t>
            </a:fld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DD2F3D-5E8F-485B-B655-29DD3A41A6B1}" type="slidenum">
              <a:t>&lt;#&gt;</a:t>
            </a:fld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C670AC-0AAB-4B42-971D-4C3B4B75863D}" type="slidenum">
              <a:t>&lt;#&gt;</a:t>
            </a:fld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007D47-ADEB-479E-B642-136028AB74E3}" type="slidenum">
              <a:t>&lt;#&gt;</a:t>
            </a:fld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F98EEF5-7B77-48F6-8740-B0305501274C}" type="slidenum">
              <a:t>&lt;#&gt;</a:t>
            </a:fld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0699C13-98DD-43BE-A7BF-6450DDEFB6DC}" type="slidenum">
              <a:t>&lt;#&gt;</a:t>
            </a:fld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0C7B946-1A11-456C-9182-EA9D5E554CC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9093F1-1AB1-4B83-8CBA-494C06BE0F03}" type="slidenum">
              <a:t>&lt;#&gt;</a:t>
            </a:fld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8E0308-5576-4782-B809-89A6FDE3FD54}" type="slidenum">
              <a:t>&lt;#&gt;</a:t>
            </a:fld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CB5F62-643B-47B0-B785-285A631B29E0}" type="slidenum">
              <a:t>&lt;#&gt;</a:t>
            </a:fld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ADC68A05-C2F6-4171-BD4C-56B2BEF30CBA}" type="slidenum">
              <a:t>&lt;#&gt;</a:t>
            </a:fld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AC47BA7-D80D-4B08-8113-A2E7618F4265}" type="slidenum">
              <a:t>&lt;#&gt;</a:t>
            </a:fld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1D913B5-69B6-453D-B490-E4954A8139D8}" type="slidenum">
              <a:t>&lt;#&gt;</a:t>
            </a:fld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F9A8E69-C08B-4EB6-9A09-6390156FBF0F}" type="slidenum">
              <a:t>&lt;#&gt;</a:t>
            </a:fld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B161144-C9EA-40E0-8783-CAF919067A67}" type="slidenum">
              <a:t>&lt;#&gt;</a:t>
            </a:fld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32B6E40-A2EA-443F-8717-858CD2C97B12}" type="slidenum">
              <a:t>&lt;#&gt;</a:t>
            </a:fld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6105FCE-3AB7-456E-B584-38C6EB33E1DA}" type="slidenum">
              <a:t>&lt;#&gt;</a:t>
            </a:fld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BE7AC1-5E7B-4024-90EC-3FCD09827DA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21F0E-AE53-4AE4-AC98-AAF591766D59}" type="slidenum">
              <a:t>&lt;#&gt;</a:t>
            </a:fld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511E79-ABED-422C-A54C-7F50A6CE692F}" type="slidenum">
              <a:t>&lt;#&gt;</a:t>
            </a:fld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7A45C-24D8-44F5-B4E0-9F2FA40AB66F}" type="slidenum">
              <a:t>&lt;#&gt;</a:t>
            </a:fld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8644AC-F944-462C-8176-6ED312D0A82B}" type="slidenum">
              <a:t>&lt;#&gt;</a:t>
            </a:fld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E23097-6D6F-4FB7-8F09-B1D69A24D41C}" type="slidenum">
              <a:t>&lt;#&gt;</a:t>
            </a:fld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A765A-67B8-4370-87C3-6A6812C0C896}" type="slidenum">
              <a:t>&lt;#&gt;</a:t>
            </a:fld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41F19A-7013-4426-A708-F297ED53BD3F}" type="slidenum">
              <a:t>&lt;#&gt;</a:t>
            </a:fld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0C180B-59A2-4EE4-9051-47AD49A03377}" type="slidenum">
              <a:t>&lt;#&gt;</a:t>
            </a:fld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456B9E-AC7D-4B87-ADCC-53CD3863A9A7}" type="slidenum">
              <a:t>&lt;#&gt;</a:t>
            </a:fld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BAC1A3-CA2C-48E3-876A-4A42646949F1}" type="slidenum">
              <a:t>&lt;#&gt;</a:t>
            </a:fld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31E67-FD4A-4248-B6A4-1E8970E3AFF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73B6F-90D3-4081-89D5-D95C0F8AE418}" type="slidenum">
              <a:t>&lt;#&gt;</a:t>
            </a:fld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4576A-7E30-46F2-A95F-2E9EE46315AC}" type="slidenum">
              <a:t>&lt;#&gt;</a:t>
            </a:fld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146569D-EF8F-4D4C-BFC0-A22BD6C41EA4}" type="slidenum">
              <a:t>&lt;#&gt;</a:t>
            </a:fld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C4931E8-8059-4020-A153-D3B6C026BDA0}" type="slidenum">
              <a:t>&lt;#&gt;</a:t>
            </a:fld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82E54E5-79C7-4EC5-BF7A-F13AA965C0D9}" type="slidenum">
              <a:t>&lt;#&gt;</a:t>
            </a:fld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17D499C-498F-4DD9-A2BB-5A2A51593F3D}" type="slidenum">
              <a:t>&lt;#&gt;</a:t>
            </a:fld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8ECFF14-7E2A-407E-9F99-A2AACE0BE35D}" type="slidenum">
              <a:t>&lt;#&gt;</a:t>
            </a:fld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0FDDE90-D9A5-4025-A2DE-C0E348E00B83}" type="slidenum">
              <a:t>&lt;#&gt;</a:t>
            </a:fld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F2D424-9464-4058-B8E3-D57FDC83C805}" type="slidenum">
              <a:t>&lt;#&gt;</a:t>
            </a:fld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B272A9-931A-497C-AD49-3C9DCA0BC89F}" type="slidenum">
              <a:t>&lt;#&gt;</a:t>
            </a:fld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90E4F9F-22C3-498D-9A5F-E14EE6764F5B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EFE8B8-6714-487F-889D-A32860E27539}" type="slidenum">
              <a:t>&lt;#&gt;</a:t>
            </a:fld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5E6B2C6-C90C-4692-A2D8-4CAD58A45DAE}" type="slidenum">
              <a:t>&lt;#&gt;</a:t>
            </a:fld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8B33543-1228-4DB1-BFCC-BAA032F48378}" type="slidenum">
              <a:t>&lt;#&gt;</a:t>
            </a:fld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11F2D94-F36F-4447-85F6-03EBDD841C1E}" type="slidenum">
              <a:t>&lt;#&gt;</a:t>
            </a:fld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BB60183-8745-4538-A21A-7641356D2CC1}" type="slidenum">
              <a:t>&lt;#&gt;</a:t>
            </a:fld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27308D0-7460-4071-9F81-90BF606950EB}" type="slidenum">
              <a:t>&lt;#&gt;</a:t>
            </a:fld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C05B47-6BC4-48A1-A29F-26F615B8F00A}" type="slidenum">
              <a:t>&lt;#&gt;</a:t>
            </a:fld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8641AE1-AC88-4DBE-B428-A3E47E1E4581}" type="slidenum">
              <a:t>&lt;#&gt;</a:t>
            </a:fld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AFAD56-BC35-4B4B-AED1-C686FE23C9E6}" type="slidenum">
              <a:t>&lt;#&gt;</a:t>
            </a:fld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B6855F3-1A9D-4A19-9053-8AAA6AF159CC}" type="slidenum">
              <a:t>&lt;#&gt;</a:t>
            </a:fld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E8700BF-4B82-4AAA-BE65-94C205FDD93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E2FFDF-9B65-49DC-925D-3AFEAC227977}" type="slidenum">
              <a:t>&lt;#&gt;</a:t>
            </a:fld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143F82D-61DA-4166-98C7-231B9EF560D4}" type="slidenum">
              <a:t>&lt;#&gt;</a:t>
            </a:fld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CC0DDF-B109-4E8B-9AAB-192FB20CC4FD}" type="slidenum">
              <a:t>&lt;#&gt;</a:t>
            </a:fld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B8B904F-77B0-4B09-B615-4E84E6658BCD}" type="slidenum">
              <a:t>&lt;#&gt;</a:t>
            </a:fld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DCF79A3-9010-415E-AEA6-899D8898B29C}" type="slidenum">
              <a:t>&lt;#&gt;</a:t>
            </a:fld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05D1F02-C5C7-4D59-B6C4-1B712B05B543}" type="slidenum">
              <a:t>&lt;#&gt;</a:t>
            </a:fld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3E20C-EE8C-450B-ABF7-3A1222B3BC70}" type="slidenum">
              <a:t>&lt;#&gt;</a:t>
            </a:fld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91F0A0-B68B-4B4E-887C-380C84273C9F}" type="slidenum">
              <a:t>&lt;#&gt;</a:t>
            </a:fld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DB6BE4-2840-4370-B98B-703E5ADA0630}" type="slidenum">
              <a:t>&lt;#&gt;</a:t>
            </a:fld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2956E6-8B87-4B8D-809D-E79431A25378}" type="slidenum">
              <a:t>&lt;#&gt;</a:t>
            </a:fld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F9DAE-AB41-46F0-ADE0-C310DC99C0AA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392B4-A53B-4A26-A3E5-397ED3FCAA70}" type="slidenum">
              <a:t>&lt;#&gt;</a:t>
            </a:fld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5A6801-05E8-4A5D-8BD5-13D62B0BDDD5}" type="slidenum">
              <a:t>&lt;#&gt;</a:t>
            </a:fld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533260-BE89-4262-BCC2-E852CD9C2390}" type="slidenum">
              <a:t>&lt;#&gt;</a:t>
            </a:fld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A7F6F7-F4D4-4B2E-98DF-ADC3BCE4EFE1}" type="slidenum">
              <a:t>&lt;#&gt;</a:t>
            </a:fld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5BB7D8-4330-4950-A30D-47A2627E23AE}" type="slidenum">
              <a:t>&lt;#&gt;</a:t>
            </a:fld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69E1F6-C627-42B3-B139-817FD47B55FF}" type="slidenum">
              <a:t>&lt;#&gt;</a:t>
            </a:fld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ED484D-90D8-4D58-809A-48499B466237}" type="slidenum">
              <a:t>&lt;#&gt;</a:t>
            </a:fld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447945-8B10-49DA-A964-9265BE67A5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8E953-624D-4BB3-B55A-6E35363EE9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CE638-D0D6-4DA2-AA12-A721566BCF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FC0F6-3551-413E-B904-A1D97CC710E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F79B4-3E1E-492E-B874-C78F24DA02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5F6AA-6293-4557-A9AE-4587DC9880C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144AE-DF86-4A7C-B41A-7A62774B0EC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3283-F3C7-41E5-8039-D71EDD546BC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5B69-5168-466E-BB84-9B22AFEA3D4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2AF0-8AEC-42DD-A6A1-C82288B3BE8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BE23C-3F1F-42D4-AF36-42A07764D60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7D2-8821-4BD7-9241-4CEADF0B1BD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B1FA6-7806-4356-9891-ADDCD3DE16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FD7C-9AF2-41FE-875E-02AC5A8EC6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3DBF-D045-42EF-9A6D-8F863DD24C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9E889-43E9-4A73-884E-7276AE44C833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C429-4473-463E-ABA1-2C7EB69A5D8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B823-B645-4AD2-8AE3-A5ED6654624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698747-021D-4F93-AAEE-856DAD3EDD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E02DC-A1E6-497D-BDA1-78FA0AE83AA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483C67-CD3A-4C43-8F48-4639F9E4C2E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9ACE13-B2F1-48C1-A969-F08FF26E893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E96990-F8F8-4EB7-A729-F2CC61E9B9E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9A95C8-0354-46D1-8D72-25FE1675CCA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ACD352-C2EC-4E68-8BCE-3444D58E6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63A9F-9420-46C5-B667-DF68C3D36E9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0DDA1-04D5-4054-AC06-1DA8BC6F7A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EC5AE7-ED14-49F2-AABD-FB1E5947F24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756735-368E-43D7-AAEF-FCA5E8E20C1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723E02-5898-458D-B6B9-5F9D952D147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13B1D4-6CED-4355-9162-E7A29119854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7DA46-8411-4B07-9476-BF612C93490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F71B9-5A1B-4E07-964C-2EC16F281B0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7D9420-6FB0-4D3C-9280-ECCFCB63DD1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9EA825-E108-4B5F-9B75-46CDF8D0DA2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163E3-1AB2-44D4-BF68-C8338802D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3B2B5-EBC7-4E83-AD88-E294B9DCF5B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13760" cy="52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99CCE3-C96E-4643-B8CA-C6326B9D29E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7D7A5-42B1-442B-A3B3-E40EEC09D6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BF43C-8973-4D08-8401-5B5131D0EF1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3B77EE-3D77-486C-B47A-77B6871F541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5604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C3C2D-024A-4063-9F88-239154AF737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320" y="160020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320" y="395604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A034B-935D-42C1-95C9-A55E539EB43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42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1640" y="160020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42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1640" y="395604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140143-9F90-4B2D-AA75-31A04BC7600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B0CD-FB3B-4B8D-98FD-17E77AE4C27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D936-F193-4065-A4D2-7494C7139A6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E828B-A2EF-438B-BC29-A926F987E9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DF53D-C087-4284-998D-5DD77A95BB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2CE40-6F8C-491B-99B5-FA8FF6E8AEB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262D5D-53AA-4A69-A418-CA18F2509389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F8236-6433-4D4C-B727-205B6267940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ED3F-8FC8-40E2-9424-3682790DB85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ED16F-C800-43F9-86F1-9F8C20FC0D1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A09E07-FC33-48FA-BE62-C00DAC7E4843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2203BD-D99A-4224-9713-1B6785587F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sldNum" idx="1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FD7C3-2509-431B-8CAE-D8A27E62F9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BF48A8-816D-454B-8D0A-434C341D40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1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D14E33-5D70-4571-97E4-99AA86685A6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52B88-CBB2-4B94-A237-253D5024D2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sldNum" idx="2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25D99C-62CE-4E53-AEFD-5B863DC610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E7E26-B830-4797-ABBB-9B378E1D8D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sldNum" idx="2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7E930-68BC-4AEB-9C55-D02597A06B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sldNum" idx="2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8C6E25-4A6F-49E9-9455-C938042F706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53196-84C1-4710-ACA1-CAC51FBE43F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25492-99A9-42C8-B67A-D41C965DC4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 type="sldNum" idx="2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F834BE-D6EC-4793-A6CF-AA0284D2F1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5F901F-F74B-421D-BEC1-A8192DD90F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 type="sldNum" idx="28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77761-CD15-414D-805C-024AB5C808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sldNum" idx="29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A6F1B-D6E0-4EF9-B726-C6BF36ADA90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780069-0D61-4F5A-AEC2-47C994F44C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BCE73-3A09-4A92-A0B8-CFE37AA765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sldNum" idx="31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9ECD0-2A45-4C76-9EFE-5AF41392C03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 type="sldNum" idx="32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1BF09-150C-4D59-9D27-03508BC6F9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EBFA1-D12A-44A7-9CAD-85CE0A44AA5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sldNum" idx="34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93793-CE0B-41DD-8C5A-B6A8521FB7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 type="sldNum" idx="35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64FA5-4F45-4A87-9151-B37E2F04B6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D2FBC-7090-4535-8D4D-E612A6097D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Text Box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 type="sldNum" idx="37"/>
          </p:nvPr>
        </p:nvSpPr>
        <p:spPr>
          <a:xfrm>
            <a:off x="6553080" y="6248520"/>
            <a:ext cx="18892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5AE927-D32A-40BA-80BB-055A0482885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3FCC5-0744-4DF7-B360-54BFCC8DF1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D4F02-0855-45BF-ADFE-63BCA0EFDE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277AB3-09F8-4594-9027-D2D44F63CC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0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9D4AA-C3F5-4AEF-B8CA-F2C78B1687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F19A8-1203-4815-99C1-3BEF7B5A5F2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D9068-7124-4A68-9636-BD1C7A3A6B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982FE-5F6B-4DF5-9ECD-B0778D1E20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0F2F0-5AE9-43CD-A0C2-3665C5300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D50A53-B6AE-464D-BD81-B432F8517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 type="sldNum" idx="46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49C654-DBD4-410E-9A24-146D43F984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7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D79552-296A-4968-9B51-11D996CEA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Text Box 1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Text Box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1788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2B341-241F-4CC0-B249-1536C7E547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1BC06-4B05-4D4A-BFAD-D4FFB4799E1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1DA63F-9B25-45F6-B59A-6AC1024EBA7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50329-56A9-4A5B-9769-E246234E864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335FE-BE3B-4D72-A896-91852D340EE4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137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1788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6B498-FF78-44AB-853C-DED3E992421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21.xml"/><Relationship Id="rId5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6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5" name="Picture 1" descr=""/>
          <p:cNvPicPr/>
          <p:nvPr/>
        </p:nvPicPr>
        <p:blipFill>
          <a:blip r:embed="rId1"/>
          <a:stretch/>
        </p:blipFill>
        <p:spPr>
          <a:xfrm>
            <a:off x="406440" y="420840"/>
            <a:ext cx="8280360" cy="6129360"/>
          </a:xfrm>
          <a:prstGeom prst="rect">
            <a:avLst/>
          </a:prstGeom>
          <a:ln w="0">
            <a:noFill/>
          </a:ln>
        </p:spPr>
      </p:pic>
      <p:sp>
        <p:nvSpPr>
          <p:cNvPr id="1986" name="Text Box 2"/>
          <p:cNvSpPr/>
          <p:nvPr/>
        </p:nvSpPr>
        <p:spPr>
          <a:xfrm>
            <a:off x="682560" y="38577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7" name="Rectangle 3"/>
          <p:cNvSpPr/>
          <p:nvPr/>
        </p:nvSpPr>
        <p:spPr>
          <a:xfrm>
            <a:off x="611280" y="1268280"/>
            <a:ext cx="79153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ACADEMIC STUDIES OF MEDIC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MEDICINE AND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8" name="Text Box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B8790A-55FE-4013-9CBC-C1045E915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General recommendations for physical trai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0" name="Text Box 2"/>
          <p:cNvSpPr/>
          <p:nvPr/>
        </p:nvSpPr>
        <p:spPr>
          <a:xfrm>
            <a:off x="457200" y="171468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ctivity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50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 min weekl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optimally 3-4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 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art with </a:t>
            </a:r>
            <a:r>
              <a:rPr b="1" lang="sr-CS" sz="2400" spc="-1" strike="noStrike" u="sng">
                <a:solidFill>
                  <a:srgbClr val="ff0000"/>
                </a:solidFill>
                <a:uFillTx/>
                <a:latin typeface="Calibri"/>
              </a:rPr>
              <a:t>50%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maximum physical load or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nd increase gradually 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o 7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nergy consumption from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1000-2000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Kcal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dequate </a:t>
            </a: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training dos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breathing rate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6-9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сardiac </a:t>
            </a:r>
            <a:r>
              <a:rPr b="1" lang="el-GR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γ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not over than 10-12/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i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41320" indent="-45720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</a:t>
            </a:r>
            <a:r>
              <a:rPr b="1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systolic blood pressur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t over than 40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mH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92633-FED6-43CF-A7D7-F65131EF85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Text Box 1"/>
          <p:cNvSpPr/>
          <p:nvPr/>
        </p:nvSpPr>
        <p:spPr>
          <a:xfrm>
            <a:off x="250920" y="125280"/>
            <a:ext cx="817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habilitation of patients withacute myocardial infar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3" name="Text Box 2"/>
          <p:cNvSpPr/>
          <p:nvPr/>
        </p:nvSpPr>
        <p:spPr>
          <a:xfrm>
            <a:off x="468360" y="1484280"/>
            <a:ext cx="82072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nce 1951 a new era in cardiovasclar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til then it was believed that after a myocardial infarction а patient needed absolute rest in duration of at least 6 weeks (it takes 6 weeks for a fibrotic scar to form at the site of infar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 was believed that physical activity in the early phase after the acute myocardial infarction may cause dilation, or formation of a ventricular aneurysm or heart ruptur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DAEAC5-1866-4D59-B0A4-C2A5C9E9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Text Box 1"/>
          <p:cNvSpPr/>
          <p:nvPr/>
        </p:nvSpPr>
        <p:spPr>
          <a:xfrm>
            <a:off x="250920" y="404640"/>
            <a:ext cx="864216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riteria for starting the rehabiliation pro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6" name="Text Box 2"/>
          <p:cNvSpPr/>
          <p:nvPr/>
        </p:nvSpPr>
        <p:spPr>
          <a:xfrm>
            <a:off x="468360" y="198900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let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volu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b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 the last 24 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signs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sufficie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cardiac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hyth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is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s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romboembolic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om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72C47-8245-4F1A-A198-3FE0282B5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nzyme activ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9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Decrease of CPK level is important for the beginning of rehabil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061B39-CDE4-4A36-BB81-679FC7843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1" name="Group 4"/>
          <p:cNvGrpSpPr/>
          <p:nvPr/>
        </p:nvGrpSpPr>
        <p:grpSpPr>
          <a:xfrm>
            <a:off x="900000" y="1628640"/>
            <a:ext cx="7328160" cy="3629160"/>
            <a:chOff x="900000" y="1628640"/>
            <a:chExt cx="7328160" cy="3629160"/>
          </a:xfrm>
        </p:grpSpPr>
        <p:sp>
          <p:nvSpPr>
            <p:cNvPr id="2072" name="Rectangle 5"/>
            <p:cNvSpPr/>
            <p:nvPr/>
          </p:nvSpPr>
          <p:spPr>
            <a:xfrm>
              <a:off x="900000" y="1628640"/>
              <a:ext cx="182052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ENZY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Rectangle 6"/>
            <p:cNvSpPr/>
            <p:nvPr/>
          </p:nvSpPr>
          <p:spPr>
            <a:xfrm>
              <a:off x="27345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FTER THE ONSET OF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Rectangle 7"/>
            <p:cNvSpPr/>
            <p:nvPr/>
          </p:nvSpPr>
          <p:spPr>
            <a:xfrm>
              <a:off x="456336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x LEVE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Rectangle 8"/>
            <p:cNvSpPr/>
            <p:nvPr/>
          </p:nvSpPr>
          <p:spPr>
            <a:xfrm>
              <a:off x="6393240" y="1628640"/>
              <a:ext cx="1817280" cy="12819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NORMALIZATION AFTER AI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Rectangle 9"/>
            <p:cNvSpPr/>
            <p:nvPr/>
          </p:nvSpPr>
          <p:spPr>
            <a:xfrm>
              <a:off x="900000" y="2926800"/>
              <a:ext cx="182052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P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Rectangle 10"/>
            <p:cNvSpPr/>
            <p:nvPr/>
          </p:nvSpPr>
          <p:spPr>
            <a:xfrm>
              <a:off x="27345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Rectangle 11"/>
            <p:cNvSpPr/>
            <p:nvPr/>
          </p:nvSpPr>
          <p:spPr>
            <a:xfrm>
              <a:off x="456336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after 24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Rectangle 12"/>
            <p:cNvSpPr/>
            <p:nvPr/>
          </p:nvSpPr>
          <p:spPr>
            <a:xfrm>
              <a:off x="6393240" y="2926800"/>
              <a:ext cx="1817280" cy="88848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Rectangle 13"/>
            <p:cNvSpPr/>
            <p:nvPr/>
          </p:nvSpPr>
          <p:spPr>
            <a:xfrm>
              <a:off x="900000" y="3821760"/>
              <a:ext cx="182052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T</a:t>
              </a: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Rectangle 14"/>
            <p:cNvSpPr/>
            <p:nvPr/>
          </p:nvSpPr>
          <p:spPr>
            <a:xfrm>
              <a:off x="27345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2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Rectangle 15"/>
            <p:cNvSpPr/>
            <p:nvPr/>
          </p:nvSpPr>
          <p:spPr>
            <a:xfrm>
              <a:off x="456336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18-36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Rectangle 16"/>
            <p:cNvSpPr/>
            <p:nvPr/>
          </p:nvSpPr>
          <p:spPr>
            <a:xfrm>
              <a:off x="6393240" y="3821760"/>
              <a:ext cx="1817280" cy="510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Rectangle 17"/>
            <p:cNvSpPr/>
            <p:nvPr/>
          </p:nvSpPr>
          <p:spPr>
            <a:xfrm>
              <a:off x="900000" y="4348800"/>
              <a:ext cx="182052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D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Rectangle 18"/>
            <p:cNvSpPr/>
            <p:nvPr/>
          </p:nvSpPr>
          <p:spPr>
            <a:xfrm>
              <a:off x="27345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24-48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Rectangle 19"/>
            <p:cNvSpPr/>
            <p:nvPr/>
          </p:nvSpPr>
          <p:spPr>
            <a:xfrm>
              <a:off x="456336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3-5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Rectangle 20"/>
            <p:cNvSpPr/>
            <p:nvPr/>
          </p:nvSpPr>
          <p:spPr>
            <a:xfrm>
              <a:off x="6393240" y="4348800"/>
              <a:ext cx="1817280" cy="89316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alibri"/>
                </a:rPr>
                <a:t>8-14 day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21"/>
            <p:cNvSpPr/>
            <p:nvPr/>
          </p:nvSpPr>
          <p:spPr>
            <a:xfrm>
              <a:off x="27345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22"/>
            <p:cNvSpPr/>
            <p:nvPr/>
          </p:nvSpPr>
          <p:spPr>
            <a:xfrm>
              <a:off x="45633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23"/>
            <p:cNvSpPr/>
            <p:nvPr/>
          </p:nvSpPr>
          <p:spPr>
            <a:xfrm>
              <a:off x="639324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24"/>
            <p:cNvSpPr/>
            <p:nvPr/>
          </p:nvSpPr>
          <p:spPr>
            <a:xfrm>
              <a:off x="900000" y="2926800"/>
              <a:ext cx="731232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25"/>
            <p:cNvSpPr/>
            <p:nvPr/>
          </p:nvSpPr>
          <p:spPr>
            <a:xfrm>
              <a:off x="900000" y="382176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26"/>
            <p:cNvSpPr/>
            <p:nvPr/>
          </p:nvSpPr>
          <p:spPr>
            <a:xfrm>
              <a:off x="900000" y="4348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27"/>
            <p:cNvSpPr/>
            <p:nvPr/>
          </p:nvSpPr>
          <p:spPr>
            <a:xfrm>
              <a:off x="90000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Line 28"/>
            <p:cNvSpPr/>
            <p:nvPr/>
          </p:nvSpPr>
          <p:spPr>
            <a:xfrm>
              <a:off x="8228160" y="1628640"/>
              <a:ext cx="0" cy="36133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29"/>
            <p:cNvSpPr/>
            <p:nvPr/>
          </p:nvSpPr>
          <p:spPr>
            <a:xfrm>
              <a:off x="900000" y="162864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0"/>
            <p:cNvSpPr/>
            <p:nvPr/>
          </p:nvSpPr>
          <p:spPr>
            <a:xfrm>
              <a:off x="900000" y="5257800"/>
              <a:ext cx="731232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arameters which indicate the presence of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9" name="Text Box 2"/>
          <p:cNvSpPr/>
          <p:nvPr/>
        </p:nvSpPr>
        <p:spPr>
          <a:xfrm>
            <a:off x="560520" y="1484280"/>
            <a:ext cx="82184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 Duration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nginal pa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more than 30 min (pain can be manifested in the precordium, jaw, shoulder, neck, fingers, abdomen, left arm tingling etc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ECG chang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 elevation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&gt;1-2 mm, pathological Q-wave and negative T-wave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osit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biohumoral syndrome of  myocardial necr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increased level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HBD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r in bloo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PK elevation 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 is at least 2 times the upper limit of norm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466075-17E3-4427-BB0F-BC94A6D28A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 for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2" name="Text Box 2"/>
          <p:cNvSpPr/>
          <p:nvPr/>
        </p:nvSpPr>
        <p:spPr>
          <a:xfrm>
            <a:off x="468360" y="1484280"/>
            <a:ext cx="849636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GENER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200/12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ТА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90/60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m H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ach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12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radycard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≤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50/min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febricity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38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ndergoing process of receiving a blood or plasma transfus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4A01B-B0D8-4E27-A3EF-EE164721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Cardiac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5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stable angina pectori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insufficiency (decompensated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rt rhythm disorder (fibrilation, atrial or ventricular flutter, ventricular tachicardia, frequent and associated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 – ventricular extrasystol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R syndrome a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) etc;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a single 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Е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of up to 5-6/min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allow rehabilit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ivity disorders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ick sinus syndrome, 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 and 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locks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 a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gree, bundle of His block  - bifascicular block);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 block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I degree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does not represent a contraindication for K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BBEDE-6E46-4649-9842-C4C51690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8" name="Text Box 2"/>
          <p:cNvSpPr/>
          <p:nvPr/>
        </p:nvSpPr>
        <p:spPr>
          <a:xfrm>
            <a:off x="457200" y="1484280"/>
            <a:ext cx="822960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ute myocarditis and pericarditi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olerance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еrgometric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50 W, with occurrence of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Т depression or elevation greater than 2 mm or clinical picture of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rinz-Me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gina pector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minen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thrombophlebit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the extremities or thrombosis within the cardiac cavity (thrombophlebitis and phlebothrombosis of the extremities are contraindications for КТh, bu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ositioning and mild manual mass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n be applied for lymph drainage; When applying a massage, it is necessary to use fibrinolytic ointments, such as heparin cream; alcohol compresses are also use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E871F0-0B1A-4BD1-9AAE-C29463EA5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contraindic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1" name="Text Box 2"/>
          <p:cNvSpPr/>
          <p:nvPr/>
        </p:nvSpPr>
        <p:spPr>
          <a:xfrm>
            <a:off x="468360" y="1484280"/>
            <a:ext cx="8351640" cy="49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-findings which indicate the increase of the left ventricle by more than 6 mm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postinfarction aneurysm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duced myocardial contractility – decrease of ejection phase below 40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3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orbid aortic anomalies etc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4E733-B2DD-4EB6-947E-5E438B84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Text Box 1"/>
          <p:cNvSpPr/>
          <p:nvPr/>
        </p:nvSpPr>
        <p:spPr>
          <a:xfrm>
            <a:off x="250920" y="44280"/>
            <a:ext cx="856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habilitation after А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Text Box 2"/>
          <p:cNvSpPr/>
          <p:nvPr/>
        </p:nvSpPr>
        <p:spPr>
          <a:xfrm>
            <a:off x="468360" y="1125360"/>
            <a:ext cx="798984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raining in psychophysical resting (psychomotor relax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аnxiety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press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symptomat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tore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uscl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ne and strength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event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mplication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: thrombophlebitis, hypostatic pneumonia and urinary infections (early mobilization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crease of threshold fo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gina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the activity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ardiac pum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imulate the development of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olateral cir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regulation of heart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ctivat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fibrinolytic syste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antiaggregation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rmonize the autonomous nervous system (catecholamin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pid metabolis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f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intain normal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ange ba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-sty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ngthen the work and lifesp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pro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ife qu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41EF6-0C44-4F49-8729-2F7F5B3F2D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0" name="Text Box 2"/>
          <p:cNvSpPr/>
          <p:nvPr/>
        </p:nvSpPr>
        <p:spPr>
          <a:xfrm>
            <a:off x="468360" y="1557360"/>
            <a:ext cx="82296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 program of activities needed to ensure the best possible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physical, emotional and social wellbe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the cardiac patients for enabling them resume a normal life as much as possible within their family and community 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im of rehabilitation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s the restoration of the transiently lost or diminished capacity for life and work, i.e. the prevention or decrease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disability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improvement of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ife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operly conducted cardiac rehabilitation decreases mortality by 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27 – 31%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WH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3FDA9-80B0-4684-8390-32F783654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ardiac rehabilitation process involves three ph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09F6C-1591-463A-BB81-9FC36EA779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8" name="Text Box 3"/>
          <p:cNvSpPr/>
          <p:nvPr/>
        </p:nvSpPr>
        <p:spPr>
          <a:xfrm>
            <a:off x="179280" y="4076640"/>
            <a:ext cx="1656000" cy="91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surgical intensive-care uni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Text Box 4"/>
          <p:cNvSpPr/>
          <p:nvPr/>
        </p:nvSpPr>
        <p:spPr>
          <a:xfrm>
            <a:off x="4923000" y="3230640"/>
            <a:ext cx="1819080" cy="825120"/>
          </a:xfrm>
          <a:prstGeom prst="rect">
            <a:avLst/>
          </a:prstGeom>
          <a:solidFill>
            <a:srgbClr val="00b050"/>
          </a:solidFill>
          <a:ln cap="sq"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3-5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Text Box 5"/>
          <p:cNvSpPr/>
          <p:nvPr/>
        </p:nvSpPr>
        <p:spPr>
          <a:xfrm>
            <a:off x="4951440" y="4183200"/>
            <a:ext cx="182088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atient c. rehabili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1200" spc="-1" strike="noStrike">
                <a:solidFill>
                  <a:srgbClr val="000000"/>
                </a:solidFill>
                <a:latin typeface="Arial"/>
              </a:rPr>
              <a:t>8-12 wee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Text Box 6"/>
          <p:cNvSpPr/>
          <p:nvPr/>
        </p:nvSpPr>
        <p:spPr>
          <a:xfrm>
            <a:off x="179280" y="3214800"/>
            <a:ext cx="1656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on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2" name="Text Box 7"/>
          <p:cNvSpPr/>
          <p:nvPr/>
        </p:nvSpPr>
        <p:spPr>
          <a:xfrm>
            <a:off x="7308720" y="4071960"/>
            <a:ext cx="1366920" cy="64260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oci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Text Box 8"/>
          <p:cNvSpPr/>
          <p:nvPr/>
        </p:nvSpPr>
        <p:spPr>
          <a:xfrm>
            <a:off x="7308720" y="3538440"/>
            <a:ext cx="1366920" cy="368280"/>
          </a:xfrm>
          <a:prstGeom prst="rect">
            <a:avLst/>
          </a:prstGeom>
          <a:solidFill>
            <a:srgbClr val="8ac6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use /fl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Text Box 9"/>
          <p:cNvSpPr/>
          <p:nvPr/>
        </p:nvSpPr>
        <p:spPr>
          <a:xfrm>
            <a:off x="2195640" y="3639960"/>
            <a:ext cx="23018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diology/ Cardiosurg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AutoShape 10"/>
          <p:cNvSpPr/>
          <p:nvPr/>
        </p:nvSpPr>
        <p:spPr>
          <a:xfrm>
            <a:off x="1835280" y="3860640"/>
            <a:ext cx="360360" cy="216000"/>
          </a:xfrm>
          <a:prstGeom prst="rightArrow">
            <a:avLst>
              <a:gd name="adj1" fmla="val 50000"/>
              <a:gd name="adj2" fmla="val 49973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6" name="AutoShape 11"/>
          <p:cNvSpPr/>
          <p:nvPr/>
        </p:nvSpPr>
        <p:spPr>
          <a:xfrm rot="19920000">
            <a:off x="4497480" y="358740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AutoShape 12"/>
          <p:cNvSpPr/>
          <p:nvPr/>
        </p:nvSpPr>
        <p:spPr>
          <a:xfrm rot="2340000">
            <a:off x="4541400" y="4128840"/>
            <a:ext cx="457200" cy="252360"/>
          </a:xfrm>
          <a:prstGeom prst="rightArrow">
            <a:avLst>
              <a:gd name="adj1" fmla="val 50000"/>
              <a:gd name="adj2" fmla="val 57068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AutoShape 13"/>
          <p:cNvSpPr/>
          <p:nvPr/>
        </p:nvSpPr>
        <p:spPr>
          <a:xfrm rot="2400000">
            <a:off x="6697440" y="3685680"/>
            <a:ext cx="457200" cy="254160"/>
          </a:xfrm>
          <a:prstGeom prst="rightArrow">
            <a:avLst>
              <a:gd name="adj1" fmla="val 50000"/>
              <a:gd name="adj2" fmla="val 57022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AutoShape 14"/>
          <p:cNvSpPr/>
          <p:nvPr/>
        </p:nvSpPr>
        <p:spPr>
          <a:xfrm rot="19440000">
            <a:off x="6721200" y="4095720"/>
            <a:ext cx="458640" cy="254160"/>
          </a:xfrm>
          <a:prstGeom prst="rightArrow">
            <a:avLst>
              <a:gd name="adj1" fmla="val 50000"/>
              <a:gd name="adj2" fmla="val 57001"/>
            </a:avLst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0" name="Line 15"/>
          <p:cNvSpPr/>
          <p:nvPr/>
        </p:nvSpPr>
        <p:spPr>
          <a:xfrm>
            <a:off x="4554360" y="1916280"/>
            <a:ext cx="180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Line 16"/>
          <p:cNvSpPr/>
          <p:nvPr/>
        </p:nvSpPr>
        <p:spPr>
          <a:xfrm>
            <a:off x="7093080" y="1916280"/>
            <a:ext cx="1440" cy="4392360"/>
          </a:xfrm>
          <a:prstGeom prst="line">
            <a:avLst/>
          </a:prstGeom>
          <a:ln cap="sq"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Text Box 17"/>
          <p:cNvSpPr/>
          <p:nvPr/>
        </p:nvSpPr>
        <p:spPr>
          <a:xfrm>
            <a:off x="416520" y="147168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 phase of hospit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3" name="Text Box 18"/>
          <p:cNvSpPr/>
          <p:nvPr/>
        </p:nvSpPr>
        <p:spPr>
          <a:xfrm>
            <a:off x="725040" y="2133720"/>
            <a:ext cx="33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acute and early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Text Box 19"/>
          <p:cNvSpPr/>
          <p:nvPr/>
        </p:nvSpPr>
        <p:spPr>
          <a:xfrm>
            <a:off x="4554360" y="1449360"/>
            <a:ext cx="2364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 phase of convalescen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Text Box 20"/>
          <p:cNvSpPr/>
          <p:nvPr/>
        </p:nvSpPr>
        <p:spPr>
          <a:xfrm>
            <a:off x="4737240" y="213372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late post-acut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Text Box 21"/>
          <p:cNvSpPr/>
          <p:nvPr/>
        </p:nvSpPr>
        <p:spPr>
          <a:xfrm>
            <a:off x="7093080" y="1455840"/>
            <a:ext cx="205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II phase of post-convalesc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Text Box 22"/>
          <p:cNvSpPr/>
          <p:nvPr/>
        </p:nvSpPr>
        <p:spPr>
          <a:xfrm>
            <a:off x="7183440" y="2133720"/>
            <a:ext cx="17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maintenance ph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8" name="Text Box 23"/>
          <p:cNvSpPr/>
          <p:nvPr/>
        </p:nvSpPr>
        <p:spPr>
          <a:xfrm>
            <a:off x="2320920" y="5357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Text Box 24"/>
          <p:cNvSpPr/>
          <p:nvPr/>
        </p:nvSpPr>
        <p:spPr>
          <a:xfrm>
            <a:off x="4572000" y="5429160"/>
            <a:ext cx="25002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eeks</a:t>
            </a: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 (2-1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monitored physical trai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psychological suppor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-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1400" spc="-1" strike="noStrike">
                <a:solidFill>
                  <a:srgbClr val="000000"/>
                </a:solidFill>
                <a:latin typeface="Calibri"/>
              </a:rPr>
              <a:t>Change of life sty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Text Box 25"/>
          <p:cNvSpPr/>
          <p:nvPr/>
        </p:nvSpPr>
        <p:spPr>
          <a:xfrm>
            <a:off x="7664400" y="542916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Y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phase of hospitaliz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Text Box 2"/>
          <p:cNvSpPr/>
          <p:nvPr/>
        </p:nvSpPr>
        <p:spPr>
          <a:xfrm>
            <a:off x="457200" y="1222200"/>
            <a:ext cx="813744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xercise program should never be started earlier than 2 days after the occurrence of A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ally, it starts on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, but in practice, it is more often on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4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ginning of an exercise program is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raining is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dividually dose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, interval and control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20000"/>
              </a:lnSpc>
              <a:spcBef>
                <a:spcPts val="74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t always starts with progressive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laxatio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Schultz and unforced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аbdominal breath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bdominal type of breathing requires a smaller energy expendi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5EC76B-0389-4BEC-86CE-037FAC784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5" name="Text Box 2"/>
          <p:cNvSpPr/>
          <p:nvPr/>
        </p:nvSpPr>
        <p:spPr>
          <a:xfrm>
            <a:off x="468360" y="1484280"/>
            <a:ext cx="8351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lying position („а“; „b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xercises in a seating position („а“; „b“ and „c“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standing next to b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V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evio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+ walking in a ro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 day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walking along a corridor of up to 50 m in leng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the previ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+ 100-200 m of 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662E5-6FDF-4196-8838-70EBF1CD7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rogram 10 steps for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0 day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8" name="Text Box 2"/>
          <p:cNvSpPr/>
          <p:nvPr/>
        </p:nvSpPr>
        <p:spPr>
          <a:xfrm>
            <a:off x="468360" y="1484280"/>
            <a:ext cx="8229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Mylin training staircase (it consists of 3 steps up and 3 steps down); the patient should repeat climbing up and down 5 times (training load corresponds to climbing stairs to the first floor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9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III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2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previous + climbing stairs to the 3</a:t>
            </a:r>
            <a:r>
              <a:rPr b="0" lang="en-US" sz="2400" spc="-1" strike="noStrike" baseline="33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lo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240" indent="-2462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246240"/>
                <a:tab algn="l" pos="703440"/>
                <a:tab algn="l" pos="1160640"/>
                <a:tab algn="l" pos="1617840"/>
                <a:tab algn="l" pos="2075040"/>
                <a:tab algn="l" pos="2532240"/>
                <a:tab algn="l" pos="2989440"/>
                <a:tab algn="l" pos="3446640"/>
                <a:tab algn="l" pos="3903840"/>
                <a:tab algn="l" pos="4361040"/>
                <a:tab algn="l" pos="4818240"/>
                <a:tab algn="l" pos="5275440"/>
                <a:tab algn="l" pos="5732640"/>
                <a:tab algn="l" pos="6189840"/>
                <a:tab algn="l" pos="6647040"/>
                <a:tab algn="l" pos="7104240"/>
                <a:tab algn="l" pos="7561440"/>
                <a:tab algn="l" pos="8018640"/>
                <a:tab algn="l" pos="8475840"/>
                <a:tab algn="l" pos="8933040"/>
                <a:tab algn="l" pos="9390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X da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the previous + limb-loaded ergometer cycl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A9752-2961-46D2-A37A-2C9E00152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Text Box 1"/>
          <p:cNvSpPr/>
          <p:nvPr/>
        </p:nvSpPr>
        <p:spPr>
          <a:xfrm>
            <a:off x="324000" y="12528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 phase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 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1" name="Text Box 2"/>
          <p:cNvSpPr/>
          <p:nvPr/>
        </p:nvSpPr>
        <p:spPr>
          <a:xfrm>
            <a:off x="46836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inue with an early rehabilitation program i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ized institu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or cardiovascular rehabilitatio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ontrolled physical training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breathing exercises and muscle shaping exercises; interval ergometer training; walk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sychological support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anxiety; depress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ducation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(hygienic-dietray regime; risk fact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hange of life st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se institutions provide continuation of physical activity which should b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121E8-ED82-4185-A4A9-34C1988CF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Text Box 1"/>
          <p:cNvSpPr/>
          <p:nvPr/>
        </p:nvSpPr>
        <p:spPr>
          <a:xfrm>
            <a:off x="250920" y="484200"/>
            <a:ext cx="8569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phase – post-convalescence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4" name="Text Box 2"/>
          <p:cNvSpPr/>
          <p:nvPr/>
        </p:nvSpPr>
        <p:spPr>
          <a:xfrm>
            <a:off x="468360" y="1268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osed physical activity according to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Andersen's form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heart rate =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200 (210) – years of life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(±5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maximal frequency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70-80% HRma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ifelon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аctiv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0ECC2-7392-4E6C-BDEB-3EC06B2B0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Text Box 1"/>
          <p:cNvSpPr/>
          <p:nvPr/>
        </p:nvSpPr>
        <p:spPr>
          <a:xfrm>
            <a:off x="324000" y="404640"/>
            <a:ext cx="8496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for discontinuation of КТh program after AI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7" name="Text Box 2"/>
          <p:cNvSpPr/>
          <p:nvPr/>
        </p:nvSpPr>
        <p:spPr>
          <a:xfrm>
            <a:off x="365040" y="1484280"/>
            <a:ext cx="8474040" cy="52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achycardi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30 /min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r a 30% increase in comparison with the resting perio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verdosed exercise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decrease the volume and intensity of exercises or discontinue the training for a whi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creas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pressur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&gt;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180/120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mm H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the permitted increase of  АТ and PULSE is up to 30% of the value at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ccurrence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rythm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ginal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eeling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hortness of breat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getting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dden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aleness or cyanosi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ith sudden decrease of ТА and pulse 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D1CCC7-AC10-48BC-925B-AA201727A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Text Box 1"/>
          <p:cNvSpPr/>
          <p:nvPr/>
        </p:nvSpPr>
        <p:spPr>
          <a:xfrm>
            <a:off x="250920" y="115920"/>
            <a:ext cx="8569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mportance of early rehabilitation after AI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0" name="Text Box 2"/>
          <p:cNvSpPr/>
          <p:nvPr/>
        </p:nvSpPr>
        <p:spPr>
          <a:xfrm>
            <a:off x="468360" y="981000"/>
            <a:ext cx="852948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systolic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ТА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ulse rat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ed need fo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 the myocardiu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riglyceride leve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the serum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ange of 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sr-Latn-CS" sz="2200" spc="-1" strike="noStrike">
                <a:solidFill>
                  <a:srgbClr val="000000"/>
                </a:solidFill>
                <a:latin typeface="Calibri"/>
              </a:rPr>
              <a:t>LD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atio in favour of protective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HDL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ody weight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the coronary flow and improved formation of the collateral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ronary blood flow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e occurrence of the lung atelectasis and hypostatic pneumoni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duction of thromboembolic com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rovement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ibrinolytic activ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аnxiety and depressive manifestation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hospital lengt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physical and professional disabilit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crease of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rbidity and mortality rat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tc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7BA6C-BADD-4C0B-8D42-01FFBD764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Text Box 1"/>
          <p:cNvSpPr/>
          <p:nvPr/>
        </p:nvSpPr>
        <p:spPr>
          <a:xfrm>
            <a:off x="684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Rehabilitation of pulmonary patient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(Respiratory rehabilitation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3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982BB7-FA8F-429D-8ECE-6966D70BE7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Text Box 1"/>
          <p:cNvSpPr/>
          <p:nvPr/>
        </p:nvSpPr>
        <p:spPr>
          <a:xfrm>
            <a:off x="250920" y="561960"/>
            <a:ext cx="8569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finition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5" name="Text Box 2"/>
          <p:cNvSpPr/>
          <p:nvPr/>
        </p:nvSpPr>
        <p:spPr>
          <a:xfrm>
            <a:off x="468360" y="1484280"/>
            <a:ext cx="8218440" cy="50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ulmonary rehabilitation is defined as an evidence-based,   multidisciplinary, comprehensive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exercise and educ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progra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esigned to reduce symptoms of COPD, which restrict  daily life of these patients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hile being integrated in the individual patient treatment, pulmonary rehabilitation has been designed to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symptom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maintain the functional statu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increase active participa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of patients and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reduce the cost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in healthcare through stabilization of systemic manifestations of this disease.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Common working groups of European Respiratory Society (ЕRS) and American Thoracic Society (АТS)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CDBFCB-EF8D-4A10-B283-E02DC24A9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dications for cardiovascular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3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6B08F-451D-46FE-ACDA-C6BC4BAB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4" name="Rectangle 3"/>
          <p:cNvSpPr/>
          <p:nvPr/>
        </p:nvSpPr>
        <p:spPr>
          <a:xfrm>
            <a:off x="4127400" y="191628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Myocardial infar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Rectangle 4"/>
          <p:cNvSpPr/>
          <p:nvPr/>
        </p:nvSpPr>
        <p:spPr>
          <a:xfrm>
            <a:off x="5584680" y="2492280"/>
            <a:ext cx="23004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coronary angioplastic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Rectangle 5"/>
          <p:cNvSpPr/>
          <p:nvPr/>
        </p:nvSpPr>
        <p:spPr>
          <a:xfrm>
            <a:off x="6084720" y="3213000"/>
            <a:ext cx="22989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t. after open-heart surger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Rectangle 6"/>
          <p:cNvSpPr/>
          <p:nvPr/>
        </p:nvSpPr>
        <p:spPr>
          <a:xfrm>
            <a:off x="6188040" y="3789360"/>
            <a:ext cx="198432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Valve reconstruction or artificial replac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Rectangle 7"/>
          <p:cNvSpPr/>
          <p:nvPr/>
        </p:nvSpPr>
        <p:spPr>
          <a:xfrm>
            <a:off x="6084720" y="4508640"/>
            <a:ext cx="10922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ngina pector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9" name="Rectangle 8"/>
          <p:cNvSpPr/>
          <p:nvPr/>
        </p:nvSpPr>
        <p:spPr>
          <a:xfrm>
            <a:off x="5373720" y="5373720"/>
            <a:ext cx="157464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rdiac insufficienc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0" name="Rectangle 9"/>
          <p:cNvSpPr/>
          <p:nvPr/>
        </p:nvSpPr>
        <p:spPr>
          <a:xfrm>
            <a:off x="2627280" y="5411880"/>
            <a:ext cx="166860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erat transplant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1" name="Rectangle 10"/>
          <p:cNvSpPr/>
          <p:nvPr/>
        </p:nvSpPr>
        <p:spPr>
          <a:xfrm>
            <a:off x="1332000" y="4653000"/>
            <a:ext cx="2028600" cy="57636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urgical treatment of congenital cardiac anomali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2" name="Rectangle 11"/>
          <p:cNvSpPr/>
          <p:nvPr/>
        </p:nvSpPr>
        <p:spPr>
          <a:xfrm>
            <a:off x="900000" y="3811680"/>
            <a:ext cx="2274840" cy="5760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eripheral blood flow disea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3" name="Rectangle 12"/>
          <p:cNvSpPr/>
          <p:nvPr/>
        </p:nvSpPr>
        <p:spPr>
          <a:xfrm>
            <a:off x="1430280" y="2263680"/>
            <a:ext cx="239400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CABG (Coronary Bypass Gra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4" name="Rectangle 13"/>
          <p:cNvSpPr/>
          <p:nvPr/>
        </p:nvSpPr>
        <p:spPr>
          <a:xfrm>
            <a:off x="900000" y="3205080"/>
            <a:ext cx="2392560" cy="457200"/>
          </a:xfrm>
          <a:prstGeom prst="rect">
            <a:avLst/>
          </a:prstGeom>
          <a:solidFill>
            <a:srgbClr val="bbe0e3"/>
          </a:solidFill>
          <a:ln cap="sq"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CI (Percutaneous Coronary Intervention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Text Box 1"/>
          <p:cNvSpPr/>
          <p:nvPr/>
        </p:nvSpPr>
        <p:spPr>
          <a:xfrm>
            <a:off x="250920" y="125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and effects of 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8" name="Text Box 2"/>
          <p:cNvSpPr/>
          <p:nvPr/>
        </p:nvSpPr>
        <p:spPr>
          <a:xfrm>
            <a:off x="468360" y="155736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Basic aim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tion of symptom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life quality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crease of physical and social participation in daily life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Effect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respiratory rehabilitation are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of respiratory symptom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physical enduranc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crease in number of hospital stays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mprovement of the quality of lif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53A85-D4F8-4940-AC81-D5AA2CF1E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1" name="Text Box 2"/>
          <p:cNvSpPr/>
          <p:nvPr/>
        </p:nvSpPr>
        <p:spPr>
          <a:xfrm>
            <a:off x="45720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iratory rehabilitation is used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ulmonary diseas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obstructive and restrictiv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postoperative complicatio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vention of complications occurring due to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long immobiliz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in bed-ridden patients (hypostatic pneumonia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ining in new breathing patterns an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ulmonary complications in patients with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pinal cord inju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83FA53-97C1-4137-908D-A7792AA681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Pulmonary diseases which allow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4" name="Text Box 2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BSTRU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5" name="Text Box 3"/>
          <p:cNvSpPr/>
          <p:nvPr/>
        </p:nvSpPr>
        <p:spPr>
          <a:xfrm>
            <a:off x="457200" y="2492280"/>
            <a:ext cx="404028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involvi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air pass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OP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  a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stic fibr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6" name="Text Box 4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STRICTIV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7" name="Text Box 5"/>
          <p:cNvSpPr/>
          <p:nvPr/>
        </p:nvSpPr>
        <p:spPr>
          <a:xfrm>
            <a:off x="4645080" y="2492280"/>
            <a:ext cx="4041720" cy="36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sufficient expansion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dilation) of the lungs du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lesions involving the chest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 bones or muscl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hanges of the lung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parenchyma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8" name="Text Box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225F95-6B7F-4A04-B2BB-88CDF2186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unctional assessment of patiens with pulmonary disea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0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Vital sig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ТА, heart rate, breathing </a:t>
            </a:r>
            <a:r>
              <a:rPr b="0" lang="el-GR" sz="2400" spc="-1" strike="noStrike">
                <a:solidFill>
                  <a:srgbClr val="000000"/>
                </a:solidFill>
                <a:latin typeface="Calibri"/>
              </a:rPr>
              <a:t>γ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 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turation, body temper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Inspec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breathing pattern; symmetrical chest movements; chest and spine defor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Palp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chest wall elasticity; symmetrical chest mov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Respiratory index (breathing inde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Functional test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: 6-min and 12-min walking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Questionnaires about daily lif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1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9F849B-507A-4B9F-B792-8DE00B135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Text Box 1"/>
          <p:cNvSpPr/>
          <p:nvPr/>
        </p:nvSpPr>
        <p:spPr>
          <a:xfrm>
            <a:off x="250920" y="417600"/>
            <a:ext cx="86421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3" name="Text Box 2"/>
          <p:cNvSpPr/>
          <p:nvPr/>
        </p:nvSpPr>
        <p:spPr>
          <a:xfrm>
            <a:off x="45720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toil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lay of bronchial collap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pe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lowing the breathing rhy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orax mobilization with involvement of the anterior abdominal wall as a support for diaphragm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e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7680" indent="-517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17680"/>
                <a:tab algn="l" pos="974880"/>
                <a:tab algn="l" pos="1432080"/>
                <a:tab algn="l" pos="1889280"/>
                <a:tab algn="l" pos="2346480"/>
                <a:tab algn="l" pos="2803680"/>
                <a:tab algn="l" pos="3260880"/>
                <a:tab algn="l" pos="3718080"/>
                <a:tab algn="l" pos="4175280"/>
                <a:tab algn="l" pos="4632480"/>
                <a:tab algn="l" pos="5089680"/>
                <a:tab algn="l" pos="5546880"/>
                <a:tab algn="l" pos="6004080"/>
                <a:tab algn="l" pos="6461280"/>
                <a:tab algn="l" pos="6918480"/>
                <a:tab algn="l" pos="7375680"/>
                <a:tab algn="l" pos="7832880"/>
                <a:tab algn="l" pos="8290080"/>
                <a:tab algn="l" pos="8747280"/>
                <a:tab algn="l" pos="9204480"/>
                <a:tab algn="l" pos="966168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 improv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4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F51B1-B6B9-4689-B0E8-5DB90077D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rehabili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6" name="Text Box 2"/>
          <p:cNvSpPr/>
          <p:nvPr/>
        </p:nvSpPr>
        <p:spPr>
          <a:xfrm>
            <a:off x="395280" y="1484280"/>
            <a:ext cx="82296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following methods are us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hal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aerosol) Тh (before drainag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elax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before breathing exerci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В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99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lneothera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49659-3AC4-4116-8B1E-B80A6BE97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Text Box 1"/>
          <p:cNvSpPr/>
          <p:nvPr/>
        </p:nvSpPr>
        <p:spPr>
          <a:xfrm>
            <a:off x="395280" y="69228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9" name="Text Box 2"/>
          <p:cNvSpPr/>
          <p:nvPr/>
        </p:nvSpPr>
        <p:spPr>
          <a:xfrm>
            <a:off x="349200" y="1484280"/>
            <a:ext cx="4040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ence of bronchospasm and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r enters the lungs more easily than it comes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is apt to use axilliary breathing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gets tired easi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0" name="Text Box 3"/>
          <p:cNvSpPr/>
          <p:nvPr/>
        </p:nvSpPr>
        <p:spPr>
          <a:xfrm>
            <a:off x="4643280" y="692280"/>
            <a:ext cx="40420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APEUTIC MEAS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1" name="Text Box 4"/>
          <p:cNvSpPr/>
          <p:nvPr/>
        </p:nvSpPr>
        <p:spPr>
          <a:xfrm>
            <a:off x="4643280" y="1341360"/>
            <a:ext cx="4042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ha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stural drainage with percussion and vib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laxation exercis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2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2DADAF-E291-40E2-8037-215CC6FDAC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193" name="AutoShape 6"/>
          <p:cNvCxnSpPr/>
          <p:nvPr/>
        </p:nvCxnSpPr>
        <p:spPr>
          <a:xfrm>
            <a:off x="457200" y="2925720"/>
            <a:ext cx="7781040" cy="1154880"/>
          </a:xfrm>
          <a:prstGeom prst="bentConnector3">
            <a:avLst>
              <a:gd name="adj1" fmla="val 49951"/>
            </a:avLst>
          </a:prstGeom>
          <a:ln cap="sq" w="57240">
            <a:solidFill>
              <a:srgbClr val="ff0000"/>
            </a:solidFill>
            <a:miter/>
          </a:ln>
        </p:spPr>
      </p:cxn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5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8680" indent="-327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spension of solid particles or liquid droplets in air 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1-5</a:t>
            </a:r>
            <a:r>
              <a:rPr b="1" lang="el-GR" sz="2400" spc="-1" strike="noStrike">
                <a:solidFill>
                  <a:srgbClr val="ff0000"/>
                </a:solidFill>
                <a:latin typeface="Calibri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eparation for bronchial drain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ubstances that can be administered by inhal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Medicin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bronchodilators, secretolytics, bronchoprotective medicines, expectorants, antibiotics, antimycotic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Natural age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mineral, fresh and sea water (they have mucolythic effect, i.e.  they loosen sputu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arenR"/>
              <a:tabLst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Other substanc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hysiological salin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, essential o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8680" indent="-327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28680"/>
                <a:tab algn="l" pos="785880"/>
                <a:tab algn="l" pos="1243080"/>
                <a:tab algn="l" pos="1700280"/>
                <a:tab algn="l" pos="2157480"/>
                <a:tab algn="l" pos="2614680"/>
                <a:tab algn="l" pos="3071880"/>
                <a:tab algn="l" pos="3529080"/>
                <a:tab algn="l" pos="3986280"/>
                <a:tab algn="l" pos="4443480"/>
                <a:tab algn="l" pos="4900680"/>
                <a:tab algn="l" pos="5357880"/>
                <a:tab algn="l" pos="5815080"/>
                <a:tab algn="l" pos="6272280"/>
                <a:tab algn="l" pos="6729480"/>
                <a:tab algn="l" pos="7186680"/>
                <a:tab algn="l" pos="7643880"/>
                <a:tab algn="l" pos="8101080"/>
                <a:tab algn="l" pos="8558280"/>
                <a:tab algn="l" pos="9015480"/>
                <a:tab algn="l" pos="947268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F1543-2168-4805-92DB-BFD545457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8" name="Text Box 2"/>
          <p:cNvSpPr/>
          <p:nvPr/>
        </p:nvSpPr>
        <p:spPr>
          <a:xfrm>
            <a:off x="324000" y="1484280"/>
            <a:ext cx="85690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dvantages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mmediate and rapid contact between the medicine and great surface area of the tracheobronchial stem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ast onset of action;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The use of low doses of the medicine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-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 small number of systemic side effec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8C2E61-495F-489E-A329-47F472E6C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nhalation (aerosol)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1" name="Text Box 2"/>
          <p:cNvSpPr/>
          <p:nvPr/>
        </p:nvSpPr>
        <p:spPr>
          <a:xfrm>
            <a:off x="539640" y="221616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erosol therapy is applied with the use of a standard jet-nebulizer with continuous airway pressure of 5k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D65DE2-FE7C-4C69-90A7-B34CBD686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ehabilitation te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6" name="Text Box 2"/>
          <p:cNvSpPr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ardiologist (superviso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atr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otherapist; occupational therapi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sycholog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Nutrition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Social work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ccupational medicine specia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7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0142D-B9E4-46E1-9620-E92B154D5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Text Box 1"/>
          <p:cNvSpPr/>
          <p:nvPr/>
        </p:nvSpPr>
        <p:spPr>
          <a:xfrm>
            <a:off x="250920" y="3333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 Drainage of respiratory airwa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4" name="Text Box 2"/>
          <p:cNvSpPr/>
          <p:nvPr/>
        </p:nvSpPr>
        <p:spPr>
          <a:xfrm>
            <a:off x="457200" y="1189080"/>
            <a:ext cx="82296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t is applied on the Mascagni's bed for posture drainag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with the tilt mechanism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- 30 m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positions for postural drainage include:</a:t>
            </a:r>
            <a:br>
              <a:rPr sz="20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 Initial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depends on the lung segment that we wish to dr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in order to move the mucus more rapidly through the trache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Principl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oblique lying position with the head bent down — such that gravity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a maximal effect of facilitating  the mucus drainage from the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airway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the lung segment to be drained is uppermost on the patient's 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Definite drainage position —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for tracheal drainage, we use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oblique lying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1580E-8816-457F-8B0A-419EB9A7AE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Text Box 1"/>
          <p:cNvSpPr/>
          <p:nvPr/>
        </p:nvSpPr>
        <p:spPr>
          <a:xfrm>
            <a:off x="250920" y="274680"/>
            <a:ext cx="86421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7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83791B-FB74-4949-83F3-A177D460C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8" name="Picture 3" descr=""/>
          <p:cNvPicPr/>
          <p:nvPr/>
        </p:nvPicPr>
        <p:blipFill>
          <a:blip r:embed="rId1"/>
          <a:srcRect l="12354" t="26407" r="62658" b="8076"/>
          <a:stretch/>
        </p:blipFill>
        <p:spPr>
          <a:xfrm>
            <a:off x="611280" y="1268280"/>
            <a:ext cx="3240000" cy="4969080"/>
          </a:xfrm>
          <a:prstGeom prst="rect">
            <a:avLst/>
          </a:prstGeom>
          <a:ln w="0">
            <a:noFill/>
          </a:ln>
        </p:spPr>
      </p:pic>
      <p:pic>
        <p:nvPicPr>
          <p:cNvPr id="2209" name="Picture 4" descr=""/>
          <p:cNvPicPr/>
          <p:nvPr/>
        </p:nvPicPr>
        <p:blipFill>
          <a:blip r:embed="rId2"/>
          <a:srcRect l="8232" t="10123" r="7726" b="10108"/>
          <a:stretch/>
        </p:blipFill>
        <p:spPr>
          <a:xfrm>
            <a:off x="4572000" y="3860640"/>
            <a:ext cx="3438360" cy="1965600"/>
          </a:xfrm>
          <a:prstGeom prst="rect">
            <a:avLst/>
          </a:prstGeom>
          <a:ln w="0">
            <a:noFill/>
          </a:ln>
        </p:spPr>
      </p:pic>
      <p:sp>
        <p:nvSpPr>
          <p:cNvPr id="2210" name="Text Box 5"/>
          <p:cNvSpPr/>
          <p:nvPr/>
        </p:nvSpPr>
        <p:spPr>
          <a:xfrm>
            <a:off x="4067280" y="1616040"/>
            <a:ext cx="468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ositions are assumed in such an order to allow shifting of the mucus towards the bronchi and the trachea, and its expulsion through coug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1" name="Text Box 6"/>
          <p:cNvSpPr/>
          <p:nvPr/>
        </p:nvSpPr>
        <p:spPr>
          <a:xfrm>
            <a:off x="4587480" y="5769000"/>
            <a:ext cx="32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ite drainage positio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oblique drainage position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rainage of respiratory pass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3" name="Text Box 2"/>
          <p:cNvSpPr/>
          <p:nvPr/>
        </p:nvSpPr>
        <p:spPr>
          <a:xfrm>
            <a:off x="285840" y="1452600"/>
            <a:ext cx="840096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Besides postural drainage, in order to achieve the removal of thick mucus from the walls of the airway passages, we simultaneously appl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4" name="Text Box 3"/>
          <p:cNvSpPr/>
          <p:nvPr/>
        </p:nvSpPr>
        <p:spPr>
          <a:xfrm>
            <a:off x="457200" y="250200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cu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5" name="Text Box 4"/>
          <p:cNvSpPr/>
          <p:nvPr/>
        </p:nvSpPr>
        <p:spPr>
          <a:xfrm>
            <a:off x="4116240" y="2502000"/>
            <a:ext cx="457056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ibration mas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6" name="Text Box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4824B8-35D9-42A5-8C38-BC1E86E958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8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Breathing with the lips closed around the mouthpiece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of a handheld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Varrying the postion of the steel ball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increased bronchial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R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which helps loosen secretions in the lu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retion on the bronchial walls become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loos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ecause fluctation of P during expirium causes vibrations (8-26 Hz) which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move the secre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from the bronchial 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59819-CBE0-468B-8AF7-3A48F02831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0" name="Picture 4" descr=""/>
          <p:cNvPicPr/>
          <p:nvPr/>
        </p:nvPicPr>
        <p:blipFill>
          <a:blip r:embed="rId1"/>
          <a:stretch/>
        </p:blipFill>
        <p:spPr>
          <a:xfrm>
            <a:off x="4500720" y="4699080"/>
            <a:ext cx="3886200" cy="1012680"/>
          </a:xfrm>
          <a:prstGeom prst="rect">
            <a:avLst/>
          </a:prstGeom>
          <a:ln w="0">
            <a:noFill/>
          </a:ln>
        </p:spPr>
      </p:pic>
      <p:pic>
        <p:nvPicPr>
          <p:cNvPr id="2221" name="Picture 5" descr=""/>
          <p:cNvPicPr/>
          <p:nvPr/>
        </p:nvPicPr>
        <p:blipFill>
          <a:blip r:embed="rId2"/>
          <a:stretch/>
        </p:blipFill>
        <p:spPr>
          <a:xfrm>
            <a:off x="1143000" y="5373720"/>
            <a:ext cx="2303640" cy="1025640"/>
          </a:xfrm>
          <a:prstGeom prst="rect">
            <a:avLst/>
          </a:prstGeom>
          <a:ln w="0">
            <a:noFill/>
          </a:ln>
        </p:spPr>
      </p:pic>
      <p:pic>
        <p:nvPicPr>
          <p:cNvPr id="2222" name="Picture 6" descr=""/>
          <p:cNvPicPr/>
          <p:nvPr/>
        </p:nvPicPr>
        <p:blipFill>
          <a:blip r:embed="rId3"/>
          <a:stretch/>
        </p:blipFill>
        <p:spPr>
          <a:xfrm>
            <a:off x="1143000" y="4137120"/>
            <a:ext cx="2303640" cy="106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Text Box 1"/>
          <p:cNvSpPr/>
          <p:nvPr/>
        </p:nvSpPr>
        <p:spPr>
          <a:xfrm>
            <a:off x="287280" y="0"/>
            <a:ext cx="856944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Flutter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4" name="Text Box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8E90B7-DBE8-4FEF-BCFA-E8A2D1CEE7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5" name="Group 3"/>
          <p:cNvGrpSpPr/>
          <p:nvPr/>
        </p:nvGrpSpPr>
        <p:grpSpPr>
          <a:xfrm>
            <a:off x="287280" y="1112760"/>
            <a:ext cx="3678120" cy="3240360"/>
            <a:chOff x="287280" y="1112760"/>
            <a:chExt cx="3678120" cy="3240360"/>
          </a:xfrm>
        </p:grpSpPr>
        <p:pic>
          <p:nvPicPr>
            <p:cNvPr id="2226" name="Picture 4" descr=""/>
            <p:cNvPicPr/>
            <p:nvPr/>
          </p:nvPicPr>
          <p:blipFill>
            <a:blip r:embed="rId1"/>
            <a:stretch/>
          </p:blipFill>
          <p:spPr>
            <a:xfrm>
              <a:off x="401760" y="1539720"/>
              <a:ext cx="35636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5"/>
            <p:cNvSpPr/>
            <p:nvPr/>
          </p:nvSpPr>
          <p:spPr>
            <a:xfrm>
              <a:off x="287280" y="1112760"/>
              <a:ext cx="18813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requency </a:t>
              </a:r>
              <a:br>
                <a:rPr sz="1800"/>
              </a:b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8-26H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Text Box 6"/>
            <p:cNvSpPr/>
            <p:nvPr/>
          </p:nvSpPr>
          <p:spPr>
            <a:xfrm>
              <a:off x="554040" y="3628440"/>
              <a:ext cx="2833560" cy="72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Bronchial volume changes in flutter therap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9" name="Group 7"/>
          <p:cNvGrpSpPr/>
          <p:nvPr/>
        </p:nvGrpSpPr>
        <p:grpSpPr>
          <a:xfrm>
            <a:off x="4267080" y="2209680"/>
            <a:ext cx="4662720" cy="4113360"/>
            <a:chOff x="4267080" y="2209680"/>
            <a:chExt cx="4662720" cy="4113360"/>
          </a:xfrm>
        </p:grpSpPr>
        <p:pic>
          <p:nvPicPr>
            <p:cNvPr id="2230" name="Picture 8" descr=""/>
            <p:cNvPicPr/>
            <p:nvPr/>
          </p:nvPicPr>
          <p:blipFill>
            <a:blip r:embed="rId2"/>
            <a:stretch/>
          </p:blipFill>
          <p:spPr>
            <a:xfrm>
              <a:off x="4267080" y="2209680"/>
              <a:ext cx="4662720" cy="411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1" name="Text Box 9"/>
            <p:cNvSpPr/>
            <p:nvPr/>
          </p:nvSpPr>
          <p:spPr>
            <a:xfrm>
              <a:off x="4282920" y="4179960"/>
              <a:ext cx="1370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mouthpie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Text Box 10"/>
            <p:cNvSpPr/>
            <p:nvPr/>
          </p:nvSpPr>
          <p:spPr>
            <a:xfrm>
              <a:off x="7694640" y="4876920"/>
              <a:ext cx="11588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5000"/>
                </a:lnSpc>
                <a:spcAft>
                  <a:spcPts val="1001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steel bal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4" name="Text Box 2"/>
          <p:cNvSpPr/>
          <p:nvPr/>
        </p:nvSpPr>
        <p:spPr>
          <a:xfrm>
            <a:off x="457200" y="1844640"/>
            <a:ext cx="822960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26880"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volv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nual manouvers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respiratory gymnast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; applying pressure with finger tips, wrists or thumbs to the certain are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auses pain and pressure over the muscles,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“central increase of excitabilit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which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makes breathing dee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y attention about the intensity and rhythm of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imulu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strong stimuli are blocking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the weak ones are not effective, too fast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absence of reac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ceded by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placement of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warm and cold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compress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n the back, chest and stomach to reduce the skin resist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E6CDB-2C9E-4CEF-943D-D1B085EC485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6" name="Text Box 1"/>
          <p:cNvSpPr/>
          <p:nvPr/>
        </p:nvSpPr>
        <p:spPr>
          <a:xfrm>
            <a:off x="250920" y="536400"/>
            <a:ext cx="86421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7" name="Text Box 2"/>
          <p:cNvSpPr/>
          <p:nvPr/>
        </p:nvSpPr>
        <p:spPr>
          <a:xfrm>
            <a:off x="395280" y="1981080"/>
            <a:ext cx="446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back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ing exercises with the use of a ball (lateral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8" name="Picture 3" descr=""/>
          <p:cNvPicPr/>
          <p:nvPr/>
        </p:nvPicPr>
        <p:blipFill>
          <a:blip r:embed="rId1"/>
          <a:stretch/>
        </p:blipFill>
        <p:spPr>
          <a:xfrm>
            <a:off x="5148360" y="1557360"/>
            <a:ext cx="3240000" cy="1727280"/>
          </a:xfrm>
          <a:prstGeom prst="rect">
            <a:avLst/>
          </a:prstGeom>
          <a:ln w="0">
            <a:noFill/>
          </a:ln>
        </p:spPr>
      </p:pic>
      <p:pic>
        <p:nvPicPr>
          <p:cNvPr id="2239" name="Picture 4" descr=""/>
          <p:cNvPicPr/>
          <p:nvPr/>
        </p:nvPicPr>
        <p:blipFill>
          <a:blip r:embed="rId2"/>
          <a:stretch/>
        </p:blipFill>
        <p:spPr>
          <a:xfrm>
            <a:off x="5148360" y="3860640"/>
            <a:ext cx="3240000" cy="1835280"/>
          </a:xfrm>
          <a:prstGeom prst="rect">
            <a:avLst/>
          </a:prstGeom>
          <a:ln w="0">
            <a:noFill/>
          </a:ln>
        </p:spPr>
      </p:pic>
      <p:sp>
        <p:nvSpPr>
          <p:cNvPr id="2240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77B3F7-FBBC-4A98-8BBA-1E88F8507E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lective breathing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2" name="Text Box 2"/>
          <p:cNvSpPr/>
          <p:nvPr/>
        </p:nvSpPr>
        <p:spPr>
          <a:xfrm>
            <a:off x="395280" y="1981080"/>
            <a:ext cx="4824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euver with pressure on the medial edge of the scap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Manipulation of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. pectoralis maj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3" name="Picture 3" descr=""/>
          <p:cNvPicPr/>
          <p:nvPr/>
        </p:nvPicPr>
        <p:blipFill>
          <a:blip r:embed="rId1"/>
          <a:stretch/>
        </p:blipFill>
        <p:spPr>
          <a:xfrm>
            <a:off x="5638680" y="1916280"/>
            <a:ext cx="2894040" cy="2017440"/>
          </a:xfrm>
          <a:prstGeom prst="rect">
            <a:avLst/>
          </a:prstGeom>
          <a:ln w="0">
            <a:noFill/>
          </a:ln>
        </p:spPr>
      </p:pic>
      <p:pic>
        <p:nvPicPr>
          <p:cNvPr id="2244" name="Picture 4" descr=""/>
          <p:cNvPicPr/>
          <p:nvPr/>
        </p:nvPicPr>
        <p:blipFill>
          <a:blip r:embed="rId2"/>
          <a:stretch/>
        </p:blipFill>
        <p:spPr>
          <a:xfrm>
            <a:off x="5624640" y="4467240"/>
            <a:ext cx="2894040" cy="1886040"/>
          </a:xfrm>
          <a:prstGeom prst="rect">
            <a:avLst/>
          </a:prstGeom>
          <a:ln w="0">
            <a:noFill/>
          </a:ln>
        </p:spPr>
      </p:pic>
      <p:sp>
        <p:nvSpPr>
          <p:cNvPr id="2245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961AEB-EA84-44EB-9BF4-29DD7EF462B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Text Box 1"/>
          <p:cNvSpPr/>
          <p:nvPr/>
        </p:nvSpPr>
        <p:spPr>
          <a:xfrm>
            <a:off x="250920" y="34596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Relax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duct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before exercis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5 – 20 mi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atient should lie on his back with mildly bent legs at the knees (a pillow is placed under the knees) and listen to the calming mus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uscle relax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5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tal relaxation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907698-2BD7-42B0-B954-EC32E688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Text Box 1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4. Breathing exercis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0" name="Text Box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A7E68-1389-4551-A25B-48B33F42B3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assessment of functional capacit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9" name="Text Box 2"/>
          <p:cNvSpPr/>
          <p:nvPr/>
        </p:nvSpPr>
        <p:spPr>
          <a:xfrm>
            <a:off x="457200" y="1557360"/>
            <a:ext cx="82296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est parameter of the functional capacity of the cardiac patients: determination of the oxygen consumption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and "anaerobic threshold"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the largest amount of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lood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at the heart can offer to the tissues an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 largest amount o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muscle fibers can utilise during intense exerci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value is usually expressed by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units of metabolic equivalent at res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МЕТ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MET = consumption of 3,5 ml О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per kg/body weight/m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1 МЕТ corresponds to the level of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 consumption</a:t>
            </a:r>
            <a:r>
              <a:rPr b="0" lang="sr-CS" sz="16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 in a healthy man weighing 70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, at rest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0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54537F-34FC-49EE-9E55-C5B2F68BA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Ins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2" name="Text Box 2"/>
          <p:cNvSpPr/>
          <p:nvPr/>
        </p:nvSpPr>
        <p:spPr>
          <a:xfrm>
            <a:off x="457200" y="1600200"/>
            <a:ext cx="5986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aphrag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inspirium and the first ⅓ of the expirium) – the primary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tercos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muscles (exter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spiratory muscula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3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6CFC1-EB06-40BA-935A-5379C1021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Calibri"/>
              </a:rPr>
              <a:t>Expiratory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muscula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5" name="Text Box 2"/>
          <p:cNvSpPr/>
          <p:nvPr/>
        </p:nvSpPr>
        <p:spPr>
          <a:xfrm>
            <a:off x="1249200" y="1600200"/>
            <a:ext cx="6202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XPIRATION – passiv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bd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uxilliar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еxpirator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tissimus dor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quadratus lumbor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200" indent="-2700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. serratus posterior inf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6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944EB-7519-4981-876A-B098884A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7" name="Rectangle 4"/>
          <p:cNvSpPr/>
          <p:nvPr/>
        </p:nvSpPr>
        <p:spPr>
          <a:xfrm>
            <a:off x="7380360" y="1027080"/>
            <a:ext cx="154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8" name="Rectangle 5"/>
          <p:cNvSpPr/>
          <p:nvPr/>
        </p:nvSpPr>
        <p:spPr>
          <a:xfrm>
            <a:off x="8161200" y="1484280"/>
            <a:ext cx="90036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9" name="Rectangle 6"/>
          <p:cNvSpPr/>
          <p:nvPr/>
        </p:nvSpPr>
        <p:spPr>
          <a:xfrm>
            <a:off x="5435640" y="1628640"/>
            <a:ext cx="108108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Text Box 1"/>
          <p:cNvSpPr/>
          <p:nvPr/>
        </p:nvSpPr>
        <p:spPr>
          <a:xfrm>
            <a:off x="227160" y="-6660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1" name="Text Box 2"/>
          <p:cNvSpPr/>
          <p:nvPr/>
        </p:nvSpPr>
        <p:spPr>
          <a:xfrm>
            <a:off x="457200" y="1278000"/>
            <a:ext cx="8229600" cy="49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14-16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breaths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adults; an infant 40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/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˃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pathological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eath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xercises have an effect only on the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uxilliary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rеspiratory muscles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dominal and the levator muscles of the rib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ile the main respiratory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do not improve their func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ampbel, 196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iaphragmatic breathing is seen in men, while women use costal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ir resistance is 2-3 times greater when breathing through the nose than through the mou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F4A01B-6131-4960-8E1E-E0285F24BC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ims of respiratory KT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4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lung venti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E consumption required for breat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allev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choking attac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crease of the chest mo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Elimination of the bronchogenic secre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OTHER aim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deformitie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/correc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of the chest sha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Decrease of pleural eff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revention of adhesion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in manag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2BD8B-41D9-4D51-8681-C9AB5B10D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Text Box 1"/>
          <p:cNvSpPr/>
          <p:nvPr/>
        </p:nvSpPr>
        <p:spPr>
          <a:xfrm>
            <a:off x="324000" y="115920"/>
            <a:ext cx="849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7" name="Text Box 2"/>
          <p:cNvSpPr/>
          <p:nvPr/>
        </p:nvSpPr>
        <p:spPr>
          <a:xfrm>
            <a:off x="457200" y="1484280"/>
            <a:ext cx="822960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rinciples of breathing exerci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has a short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ns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inhalation) through the nos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d then a slow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expiriu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exalation) with the mouth half-op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ff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Expirium is 2-3 times longer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an inspir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Patient should use (elevate) auxilliary respiratory muscles (exercises for strengthening the abdominal muscles) and hold arms on the stoma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are first performed in a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lying positio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then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sitting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and then, while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wal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D86227-58E4-4559-B3B7-B83B2292D0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Text Box 1"/>
          <p:cNvSpPr/>
          <p:nvPr/>
        </p:nvSpPr>
        <p:spPr>
          <a:xfrm>
            <a:off x="250920" y="549360"/>
            <a:ext cx="8569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0" name="Text Box 2"/>
          <p:cNvSpPr/>
          <p:nvPr/>
        </p:nvSpPr>
        <p:spPr>
          <a:xfrm>
            <a:off x="4284720" y="1981080"/>
            <a:ext cx="460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aphragmatic and lower costal breathing tr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andbag breathing for diaphragm strengthe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1" name="Picture 3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3189240" cy="1935000"/>
          </a:xfrm>
          <a:prstGeom prst="rect">
            <a:avLst/>
          </a:prstGeom>
          <a:ln w="0">
            <a:noFill/>
          </a:ln>
        </p:spPr>
      </p:pic>
      <p:pic>
        <p:nvPicPr>
          <p:cNvPr id="2272" name="Picture 4" descr=""/>
          <p:cNvPicPr/>
          <p:nvPr/>
        </p:nvPicPr>
        <p:blipFill>
          <a:blip r:embed="rId2"/>
          <a:stretch/>
        </p:blipFill>
        <p:spPr>
          <a:xfrm>
            <a:off x="468360" y="4149720"/>
            <a:ext cx="3189240" cy="1908360"/>
          </a:xfrm>
          <a:prstGeom prst="rect">
            <a:avLst/>
          </a:prstGeom>
          <a:ln w="0">
            <a:noFill/>
          </a:ln>
        </p:spPr>
      </p:pic>
      <p:sp>
        <p:nvSpPr>
          <p:cNvPr id="2273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F8F2EE-D5CE-4FC5-BA72-DBDF2CAD5B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Text Box 1"/>
          <p:cNvSpPr/>
          <p:nvPr/>
        </p:nvSpPr>
        <p:spPr>
          <a:xfrm>
            <a:off x="250920" y="115920"/>
            <a:ext cx="856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5" name="Text Box 2"/>
          <p:cNvSpPr/>
          <p:nvPr/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can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the whis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6" name="Picture 3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2616120" cy="1654200"/>
          </a:xfrm>
          <a:prstGeom prst="rect">
            <a:avLst/>
          </a:prstGeom>
          <a:ln w="0">
            <a:noFill/>
          </a:ln>
        </p:spPr>
      </p:pic>
      <p:pic>
        <p:nvPicPr>
          <p:cNvPr id="2277" name="Picture 4" descr=""/>
          <p:cNvPicPr/>
          <p:nvPr/>
        </p:nvPicPr>
        <p:blipFill>
          <a:blip r:embed="rId2"/>
          <a:stretch/>
        </p:blipFill>
        <p:spPr>
          <a:xfrm>
            <a:off x="755640" y="4292640"/>
            <a:ext cx="2577960" cy="1800360"/>
          </a:xfrm>
          <a:prstGeom prst="rect">
            <a:avLst/>
          </a:prstGeom>
          <a:ln w="0">
            <a:noFill/>
          </a:ln>
        </p:spPr>
      </p:pic>
      <p:sp>
        <p:nvSpPr>
          <p:cNvPr id="2278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E02EA-D130-4F6B-9728-83EA37BF03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0" name="Picture 2" descr=""/>
          <p:cNvPicPr/>
          <p:nvPr/>
        </p:nvPicPr>
        <p:blipFill>
          <a:blip r:embed="rId1"/>
          <a:stretch/>
        </p:blipFill>
        <p:spPr>
          <a:xfrm>
            <a:off x="2438280" y="1981080"/>
            <a:ext cx="3810240" cy="4114800"/>
          </a:xfrm>
          <a:prstGeom prst="rect">
            <a:avLst/>
          </a:prstGeom>
          <a:ln w="0">
            <a:noFill/>
          </a:ln>
        </p:spPr>
      </p:pic>
      <p:sp>
        <p:nvSpPr>
          <p:cNvPr id="2281" name="Text Box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48B53-DE00-48C4-A277-C44D3FAE933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reath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3" name="Text Box 2"/>
          <p:cNvSpPr/>
          <p:nvPr/>
        </p:nvSpPr>
        <p:spPr>
          <a:xfrm>
            <a:off x="4648320" y="2193840"/>
            <a:ext cx="41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fferent props for breathing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lowing soap bub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4" name="Picture 3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2914560" cy="2143080"/>
          </a:xfrm>
          <a:prstGeom prst="rect">
            <a:avLst/>
          </a:prstGeom>
          <a:ln w="0">
            <a:noFill/>
          </a:ln>
        </p:spPr>
      </p:pic>
      <p:pic>
        <p:nvPicPr>
          <p:cNvPr id="2285" name="Picture 4" descr=""/>
          <p:cNvPicPr/>
          <p:nvPr/>
        </p:nvPicPr>
        <p:blipFill>
          <a:blip r:embed="rId2"/>
          <a:stretch/>
        </p:blipFill>
        <p:spPr>
          <a:xfrm>
            <a:off x="952560" y="2057400"/>
            <a:ext cx="2971800" cy="1677960"/>
          </a:xfrm>
          <a:prstGeom prst="rect">
            <a:avLst/>
          </a:prstGeom>
          <a:ln w="0">
            <a:noFill/>
          </a:ln>
        </p:spPr>
      </p:pic>
      <p:sp>
        <p:nvSpPr>
          <p:cNvPr id="2286" name="Text Box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B1C1B6-9D46-4769-95A6-E2E42B578E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General conditioning exercis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8" name="Text Box 2"/>
          <p:cNvSpPr/>
          <p:nvPr/>
        </p:nvSpPr>
        <p:spPr>
          <a:xfrm>
            <a:off x="45720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Cycloergometer exer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Various  gymnastic exercises involving the extremities, abdominal and back musculature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alking; exercises with weights; Tai-chi; hydro-КТ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IM: 20-30 min, 2-3 times/week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se exercises should be performed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9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F19D8-7364-4460-B7EE-19650C964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Physical workload, </a:t>
            </a:r>
            <a:r>
              <a:rPr b="1" lang="en-US" sz="3400" spc="-1" strike="noStrike">
                <a:solidFill>
                  <a:srgbClr val="ff0000"/>
                </a:solidFill>
                <a:latin typeface="Calibri"/>
              </a:rPr>
              <a:t> functional capacity</a:t>
            </a: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, physiological symptoms and </a:t>
            </a:r>
            <a:r>
              <a:rPr b="1" lang="hr-HR" sz="3400" spc="-1" strike="noStrike">
                <a:solidFill>
                  <a:srgbClr val="000000"/>
                </a:solidFill>
                <a:latin typeface="Calibri"/>
              </a:rPr>
              <a:t>ME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2" name="Group 2"/>
          <p:cNvGrpSpPr/>
          <p:nvPr/>
        </p:nvGrpSpPr>
        <p:grpSpPr>
          <a:xfrm>
            <a:off x="179280" y="1341360"/>
            <a:ext cx="8769600" cy="5408640"/>
            <a:chOff x="179280" y="1341360"/>
            <a:chExt cx="8769600" cy="5408640"/>
          </a:xfrm>
        </p:grpSpPr>
        <p:sp>
          <p:nvSpPr>
            <p:cNvPr id="2013" name="Rectangle 3"/>
            <p:cNvSpPr/>
            <p:nvPr/>
          </p:nvSpPr>
          <p:spPr>
            <a:xfrm>
              <a:off x="179280" y="1341360"/>
              <a:ext cx="2180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Workload group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4"/>
            <p:cNvSpPr/>
            <p:nvPr/>
          </p:nvSpPr>
          <p:spPr>
            <a:xfrm>
              <a:off x="2374200" y="1341360"/>
              <a:ext cx="145836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capacit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5"/>
            <p:cNvSpPr/>
            <p:nvPr/>
          </p:nvSpPr>
          <p:spPr>
            <a:xfrm>
              <a:off x="3842640" y="1341360"/>
              <a:ext cx="338688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Functional symptom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"/>
            <p:cNvSpPr/>
            <p:nvPr/>
          </p:nvSpPr>
          <p:spPr>
            <a:xfrm>
              <a:off x="7247160" y="1341360"/>
              <a:ext cx="1685520" cy="99036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МЕТ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7"/>
            <p:cNvSpPr/>
            <p:nvPr/>
          </p:nvSpPr>
          <p:spPr>
            <a:xfrm>
              <a:off x="179280" y="2347560"/>
              <a:ext cx="2180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eavy to very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8"/>
            <p:cNvSpPr/>
            <p:nvPr/>
          </p:nvSpPr>
          <p:spPr>
            <a:xfrm>
              <a:off x="2374200" y="2347560"/>
              <a:ext cx="145836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Norm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9"/>
            <p:cNvSpPr/>
            <p:nvPr/>
          </p:nvSpPr>
          <p:spPr>
            <a:xfrm>
              <a:off x="3842640" y="2347560"/>
              <a:ext cx="338688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symptomati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10"/>
            <p:cNvSpPr/>
            <p:nvPr/>
          </p:nvSpPr>
          <p:spPr>
            <a:xfrm>
              <a:off x="7247160" y="2347560"/>
              <a:ext cx="1685520" cy="74412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≥ 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11"/>
            <p:cNvSpPr/>
            <p:nvPr/>
          </p:nvSpPr>
          <p:spPr>
            <a:xfrm>
              <a:off x="179280" y="3106080"/>
              <a:ext cx="2180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edium to heavy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12"/>
            <p:cNvSpPr/>
            <p:nvPr/>
          </p:nvSpPr>
          <p:spPr>
            <a:xfrm>
              <a:off x="2374200" y="3106080"/>
              <a:ext cx="145836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Rectangle 13"/>
            <p:cNvSpPr/>
            <p:nvPr/>
          </p:nvSpPr>
          <p:spPr>
            <a:xfrm>
              <a:off x="3842640" y="3106080"/>
              <a:ext cx="338688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-No limita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of physical activit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Rectangle 14"/>
            <p:cNvSpPr/>
            <p:nvPr/>
          </p:nvSpPr>
          <p:spPr>
            <a:xfrm>
              <a:off x="7247160" y="3106080"/>
              <a:ext cx="1685520" cy="89820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˃ 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Rectangle 15"/>
            <p:cNvSpPr/>
            <p:nvPr/>
          </p:nvSpPr>
          <p:spPr>
            <a:xfrm>
              <a:off x="179280" y="4013640"/>
              <a:ext cx="2180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ight to medium work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Rectangle 16"/>
            <p:cNvSpPr/>
            <p:nvPr/>
          </p:nvSpPr>
          <p:spPr>
            <a:xfrm>
              <a:off x="2374200" y="4013640"/>
              <a:ext cx="145836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Rectangle 17"/>
            <p:cNvSpPr/>
            <p:nvPr/>
          </p:nvSpPr>
          <p:spPr>
            <a:xfrm>
              <a:off x="3842640" y="4013640"/>
              <a:ext cx="338688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slight to moderate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Rectangle 18"/>
            <p:cNvSpPr/>
            <p:nvPr/>
          </p:nvSpPr>
          <p:spPr>
            <a:xfrm>
              <a:off x="7247160" y="4013640"/>
              <a:ext cx="1685520" cy="89820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3 – 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Rectangle 19"/>
            <p:cNvSpPr/>
            <p:nvPr/>
          </p:nvSpPr>
          <p:spPr>
            <a:xfrm>
              <a:off x="179280" y="4921560"/>
              <a:ext cx="2180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 to light work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Rectangle 20"/>
            <p:cNvSpPr/>
            <p:nvPr/>
          </p:nvSpPr>
          <p:spPr>
            <a:xfrm>
              <a:off x="2374200" y="4921560"/>
              <a:ext cx="145836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Rectangle 21"/>
            <p:cNvSpPr/>
            <p:nvPr/>
          </p:nvSpPr>
          <p:spPr>
            <a:xfrm>
              <a:off x="3842640" y="4921560"/>
              <a:ext cx="338688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 – moderate to marked limitation of physical activity (no symptoms at rest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Rectangle 22"/>
            <p:cNvSpPr/>
            <p:nvPr/>
          </p:nvSpPr>
          <p:spPr>
            <a:xfrm>
              <a:off x="7247160" y="4921560"/>
              <a:ext cx="1685520" cy="897840"/>
            </a:xfrm>
            <a:prstGeom prst="rect">
              <a:avLst/>
            </a:prstGeom>
            <a:solidFill>
              <a:srgbClr val="f3f9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 – 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Rectangle 23"/>
            <p:cNvSpPr/>
            <p:nvPr/>
          </p:nvSpPr>
          <p:spPr>
            <a:xfrm>
              <a:off x="179280" y="5835600"/>
              <a:ext cx="2180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Sedentar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Rectangle 24"/>
            <p:cNvSpPr/>
            <p:nvPr/>
          </p:nvSpPr>
          <p:spPr>
            <a:xfrm>
              <a:off x="2374200" y="5835600"/>
              <a:ext cx="145836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Rectangle 25"/>
            <p:cNvSpPr/>
            <p:nvPr/>
          </p:nvSpPr>
          <p:spPr>
            <a:xfrm>
              <a:off x="3842640" y="5835600"/>
              <a:ext cx="338688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ardiac disease– symptoms present,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Calibri"/>
                </a:rPr>
                <a:t>even at rest</a:t>
              </a: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 (fatigue, arrhythmia, choking, АP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Rectangle 26"/>
            <p:cNvSpPr/>
            <p:nvPr/>
          </p:nvSpPr>
          <p:spPr>
            <a:xfrm>
              <a:off x="7247160" y="5835600"/>
              <a:ext cx="1685520" cy="897840"/>
            </a:xfrm>
            <a:prstGeom prst="rect">
              <a:avLst/>
            </a:prstGeom>
            <a:solidFill>
              <a:srgbClr val="e7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 – 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27"/>
            <p:cNvSpPr/>
            <p:nvPr/>
          </p:nvSpPr>
          <p:spPr>
            <a:xfrm>
              <a:off x="237420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28"/>
            <p:cNvSpPr/>
            <p:nvPr/>
          </p:nvSpPr>
          <p:spPr>
            <a:xfrm>
              <a:off x="384264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9"/>
            <p:cNvSpPr/>
            <p:nvPr/>
          </p:nvSpPr>
          <p:spPr>
            <a:xfrm>
              <a:off x="724716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30"/>
            <p:cNvSpPr/>
            <p:nvPr/>
          </p:nvSpPr>
          <p:spPr>
            <a:xfrm>
              <a:off x="179280" y="2347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31"/>
            <p:cNvSpPr/>
            <p:nvPr/>
          </p:nvSpPr>
          <p:spPr>
            <a:xfrm>
              <a:off x="179280" y="310608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32"/>
            <p:cNvSpPr/>
            <p:nvPr/>
          </p:nvSpPr>
          <p:spPr>
            <a:xfrm>
              <a:off x="179280" y="401364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Line 33"/>
            <p:cNvSpPr/>
            <p:nvPr/>
          </p:nvSpPr>
          <p:spPr>
            <a:xfrm>
              <a:off x="179280" y="49215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Line 34"/>
            <p:cNvSpPr/>
            <p:nvPr/>
          </p:nvSpPr>
          <p:spPr>
            <a:xfrm>
              <a:off x="179280" y="58356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35"/>
            <p:cNvSpPr/>
            <p:nvPr/>
          </p:nvSpPr>
          <p:spPr>
            <a:xfrm>
              <a:off x="1792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Line 36"/>
            <p:cNvSpPr/>
            <p:nvPr/>
          </p:nvSpPr>
          <p:spPr>
            <a:xfrm>
              <a:off x="8948880" y="1341360"/>
              <a:ext cx="0" cy="53924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37"/>
            <p:cNvSpPr/>
            <p:nvPr/>
          </p:nvSpPr>
          <p:spPr>
            <a:xfrm>
              <a:off x="179280" y="134136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Line 38"/>
            <p:cNvSpPr/>
            <p:nvPr/>
          </p:nvSpPr>
          <p:spPr>
            <a:xfrm>
              <a:off x="179280" y="6750000"/>
              <a:ext cx="87537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9" name="Text Box 3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ADC41-42AD-484E-BB0A-06F43F63B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Text Box 1"/>
          <p:cNvSpPr/>
          <p:nvPr/>
        </p:nvSpPr>
        <p:spPr>
          <a:xfrm>
            <a:off x="250920" y="11592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R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limato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1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most suitable is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moderate-altitude climate (маx 800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!!!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nd coastal climate, although there is an individual reaction to clim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26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FFFED-4998-4C4E-BFB1-34B4FAC4A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Text Box 1"/>
          <p:cNvSpPr/>
          <p:nvPr/>
        </p:nvSpPr>
        <p:spPr>
          <a:xfrm>
            <a:off x="179280" y="404640"/>
            <a:ext cx="88394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Therapeutic classification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cardiac patient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1" name="Text Box 2"/>
          <p:cNvSpPr/>
          <p:nvPr/>
        </p:nvSpPr>
        <p:spPr>
          <a:xfrm>
            <a:off x="468360" y="1484280"/>
            <a:ext cx="8370720" cy="49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А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B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oes not have to be limit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but wh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should avoid strenous activit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r competition at wor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C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oderate limit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of physical activities, but who should be prohibited from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great physical exer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D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se physical activities need to be greatly limite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6880" indent="-32688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Calibri"/>
              <a:buChar char="•"/>
              <a:tabLst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Class "Е“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cardiac patients who ne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complete bed res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hich involves staying in bed or wheeling chai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2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71948-2366-4F1A-ADED-29D4C5901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Text Box 1"/>
          <p:cNvSpPr/>
          <p:nvPr/>
        </p:nvSpPr>
        <p:spPr>
          <a:xfrm>
            <a:off x="250920" y="620640"/>
            <a:ext cx="86421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4" name="Text Box 2"/>
          <p:cNvSpPr/>
          <p:nvPr/>
        </p:nvSpPr>
        <p:spPr>
          <a:xfrm>
            <a:off x="468360" y="1484280"/>
            <a:ext cx="821844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 Physical examination of the he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the heart  ra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easurement of blood pressure 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rcussion, palpation and ausculta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cardiographic exami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appearanc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б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 ECG devia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thological ECG chang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5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46363-D19C-4395-B974-F2CA760F0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Text Box 1"/>
          <p:cNvSpPr/>
          <p:nvPr/>
        </p:nvSpPr>
        <p:spPr>
          <a:xfrm>
            <a:off x="250920" y="274680"/>
            <a:ext cx="864216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thods of assessment of cardiac pati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7" name="Text Box 2"/>
          <p:cNvSpPr/>
          <p:nvPr/>
        </p:nvSpPr>
        <p:spPr>
          <a:xfrm>
            <a:off x="468360" y="1484280"/>
            <a:ext cx="8370720" cy="50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272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aboratory  te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а) standard indicators (sedimentation, complete blood count, glycaemia, cholesterol, urine, urea, triglycerides,  urine, urea, blood group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b) cholesterol fractions, transaminase, apoprotein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) determination of C-reactive protein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) determination of fibrinopeptide A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е) determination of electrolyt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cinti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chocardiograp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Angiocardiography (coronarography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2724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43080"/>
                <a:tab algn="l" pos="898560"/>
                <a:tab algn="l" pos="1812960"/>
                <a:tab algn="l" pos="2727360"/>
                <a:tab algn="l" pos="3641760"/>
                <a:tab algn="l" pos="4556160"/>
                <a:tab algn="l" pos="5470560"/>
                <a:tab algn="l" pos="6384960"/>
                <a:tab algn="l" pos="7299360"/>
                <a:tab algn="l" pos="8213760"/>
                <a:tab algn="l" pos="9128160"/>
                <a:tab algn="l" pos="10042560"/>
                <a:tab algn="l" pos="10044000"/>
                <a:tab algn="l" pos="105012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Electrical bioimped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8" name="Text Box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7380E0-98F9-4525-97F8-9D0C1D08E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0T14:35:16Z</dcterms:created>
  <dc:creator>WIN98SE</dc:creator>
  <dc:description/>
  <dc:language>en-US</dc:language>
  <cp:lastModifiedBy>Nada Miklja</cp:lastModifiedBy>
  <dcterms:modified xsi:type="dcterms:W3CDTF">2023-09-27T09:32:47Z</dcterms:modified>
  <cp:revision>424</cp:revision>
  <dc:subject/>
  <dc:title>Rehabilitacija AIM</dc:title>
</cp:coreProperties>
</file>